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8.png" ContentType="image/png"/>
  <Override PartName="/ppt/media/image14.jpeg" ContentType="image/jpeg"/>
  <Override PartName="/ppt/media/image7.png" ContentType="image/png"/>
  <Override PartName="/ppt/media/image12.jpeg" ContentType="image/jpeg"/>
  <Override PartName="/ppt/media/image11.png" ContentType="image/png"/>
  <Override PartName="/ppt/media/image6.png" ContentType="image/png"/>
  <Override PartName="/ppt/media/image13.jpeg" ContentType="image/jpeg"/>
  <Override PartName="/ppt/media/image23.jpeg" ContentType="image/jpeg"/>
  <Override PartName="/ppt/media/image18.jpeg" ContentType="image/jpeg"/>
  <Override PartName="/ppt/media/image22.png" ContentType="image/png"/>
  <Override PartName="/ppt/media/image20.png" ContentType="image/png"/>
  <Override PartName="/ppt/media/image3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6.jpeg" ContentType="image/jpeg"/>
  <Override PartName="/ppt/media/image15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comments/comment24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luobo" initials="l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presProps" Target="presProps.xml"/><Relationship Id="rId57" Type="http://schemas.openxmlformats.org/officeDocument/2006/relationships/commentAuthors" Target="commentAuthors.xml"/>
</Relationships>
</file>

<file path=ppt/comments/comment24.xml><?xml version="1.0" encoding="utf-8"?>
<p:cmLst xmlns:p="http://schemas.openxmlformats.org/presentationml/2006/main">
  <p:cm authorId="0" dt="2014-12-17T15:34:24.953000000" idx="1">
    <p:pos x="5760" y="3552"/>
    <p:text/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D45132-9B02-4949-81C8-E528B39431B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C6F383-28A5-4C38-9DDB-A274657DD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F6D86E-21A3-436E-A187-00FE6CEB6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37BFD6-C6CD-47C6-B8CA-F67CDD740C4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718713-F410-4285-9092-B26D2AE42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D3F76A-BF88-4797-A35D-49BA4383A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BF8870-45B0-4270-88E6-3D785F320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6EAF8B-9F3E-4079-849E-CB06E760E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8E483D-5F55-40C3-ADD8-A31EA4EF1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2C433E-522D-4D4C-9292-B8BE1F6A4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258D58-551B-4821-987B-AADD522ED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75FEC0-F07D-46DA-AC30-447B727DE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A662A-654B-4C8D-B033-EE0BB042924D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comments" Target="../comments/comment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" Target="slide31.xml"/><Relationship Id="rId3" Type="http://schemas.openxmlformats.org/officeDocument/2006/relationships/slide" Target="slide32.xml"/><Relationship Id="rId4" Type="http://schemas.openxmlformats.org/officeDocument/2006/relationships/slide" Target="slide33.xml"/><Relationship Id="rId5" Type="http://schemas.openxmlformats.org/officeDocument/2006/relationships/slide" Target="slide34.xml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image" Target="../media/image11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" Target="slide28.xml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0920" y="1916280"/>
            <a:ext cx="5400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230c"/>
                </a:solidFill>
                <a:latin typeface="Verdana"/>
                <a:ea typeface="宋体"/>
              </a:rPr>
              <a:t>第十一章</a:t>
            </a:r>
            <a:br>
              <a:rPr sz="4400"/>
            </a:br>
            <a:r>
              <a:rPr b="1" lang="zh-CN" sz="4400" spc="-1" strike="noStrike">
                <a:solidFill>
                  <a:srgbClr val="fe230c"/>
                </a:solidFill>
                <a:latin typeface="Verdana"/>
                <a:ea typeface="宋体"/>
              </a:rPr>
              <a:t>内分泌系统功能监护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1547640" y="1844280"/>
            <a:ext cx="5491440" cy="25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  <a:ea typeface="宋体"/>
              </a:rPr>
              <a:t>第二节 临床监护 </a:t>
            </a:r>
            <a:endParaRPr b="1" lang="en-US" sz="4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587640" y="304560"/>
            <a:ext cx="2327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病 例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圆角矩形 3"/>
          <p:cNvSpPr/>
          <p:nvPr/>
        </p:nvSpPr>
        <p:spPr>
          <a:xfrm>
            <a:off x="395280" y="1413000"/>
            <a:ext cx="7858080" cy="150012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患者，唐女士，女，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50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岁，因“心悸、双手颤抖半年余”入院，患者入院前半年开始出现心悸、双手颤抖，易出汗、烦躁和激动；近半年食欲增加，体重却下降约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5kg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；夜间睡眠时间明显减少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矩形 5"/>
          <p:cNvSpPr/>
          <p:nvPr/>
        </p:nvSpPr>
        <p:spPr>
          <a:xfrm>
            <a:off x="468360" y="3141720"/>
            <a:ext cx="7775640" cy="180000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查体：患者双眼突出、甲状腺双叶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度肿大，全身皮肤黏膜完整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实验室检查提示：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T3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T4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升高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剪去单角的矩形 6"/>
          <p:cNvSpPr/>
          <p:nvPr/>
        </p:nvSpPr>
        <p:spPr>
          <a:xfrm>
            <a:off x="395280" y="5300640"/>
            <a:ext cx="8001000" cy="714240"/>
          </a:xfrm>
          <a:prstGeom prst="pi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问题：该患者护理评估内容有哪些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矩形 3"/>
          <p:cNvSpPr/>
          <p:nvPr/>
        </p:nvSpPr>
        <p:spPr>
          <a:xfrm>
            <a:off x="3203640" y="333360"/>
            <a:ext cx="32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病史评估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Rectangle 7"/>
          <p:cNvSpPr/>
          <p:nvPr/>
        </p:nvSpPr>
        <p:spPr>
          <a:xfrm>
            <a:off x="684360" y="1408680"/>
            <a:ext cx="64087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一般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体格检查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辅助检查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生命体征与意识状态的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矩形 3"/>
          <p:cNvSpPr/>
          <p:nvPr/>
        </p:nvSpPr>
        <p:spPr>
          <a:xfrm>
            <a:off x="3492360" y="333360"/>
            <a:ext cx="324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宋体"/>
                <a:ea typeface="宋体"/>
              </a:rPr>
              <a:t>病史评估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Rectangle 4"/>
          <p:cNvSpPr/>
          <p:nvPr/>
        </p:nvSpPr>
        <p:spPr>
          <a:xfrm>
            <a:off x="755640" y="1559880"/>
            <a:ext cx="6408720" cy="34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一般评估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病经过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生活史和家族史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既往史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理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社会状况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矩形 3"/>
          <p:cNvSpPr/>
          <p:nvPr/>
        </p:nvSpPr>
        <p:spPr>
          <a:xfrm>
            <a:off x="3203640" y="333360"/>
            <a:ext cx="32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病史评估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Rectangle 4"/>
          <p:cNvSpPr/>
          <p:nvPr/>
        </p:nvSpPr>
        <p:spPr>
          <a:xfrm>
            <a:off x="1547640" y="1345680"/>
            <a:ext cx="6409080" cy="47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体格检查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般状况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皮肤黏膜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头颈部检查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四肢、脊柱、骨关节检查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生殖检查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矩形 3"/>
          <p:cNvSpPr/>
          <p:nvPr/>
        </p:nvSpPr>
        <p:spPr>
          <a:xfrm>
            <a:off x="3203640" y="333360"/>
            <a:ext cx="32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病史评估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Rectangle 4"/>
          <p:cNvSpPr/>
          <p:nvPr/>
        </p:nvSpPr>
        <p:spPr>
          <a:xfrm>
            <a:off x="1332000" y="1130400"/>
            <a:ext cx="6553080" cy="51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实验室检查： 激素及代谢产物测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血液和尿生化测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影像学检查 ：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X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线检查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CT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MRI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超检查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选择性动脉造影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放射性核素检查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                                                                                      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矩形 3"/>
          <p:cNvSpPr/>
          <p:nvPr/>
        </p:nvSpPr>
        <p:spPr>
          <a:xfrm>
            <a:off x="3203640" y="333360"/>
            <a:ext cx="32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病史评估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Rectangle 4"/>
          <p:cNvSpPr/>
          <p:nvPr/>
        </p:nvSpPr>
        <p:spPr>
          <a:xfrm>
            <a:off x="900000" y="2074320"/>
            <a:ext cx="7056720" cy="31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生命体征与意识状态的评估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体温：甲亢危象体温达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40℃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；甲状腺功能低下体温低于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0℃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脉搏：重点监测脉率、心率和心律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呼吸：呼吸频率、节律和形态，不同疾病呼吸异常表现不一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血压：多种内分泌疾病均可引起血压异常，防低血压休克和高血压危象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意识状态评估患者有无嗜睡、意识模糊、表情淡漠、谵妄幻觉、定向障碍、癫痫样抽搐的表现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123640" y="260280"/>
            <a:ext cx="55436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史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—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血糖监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静脉血葡萄糖测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空腹葡萄糖测定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口服葡萄糖耐量试验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oral glucose tolerance test ,OGTT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：是指在清晨给成人口服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75g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葡萄糖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要求之前禁食至少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小时，采集空腹静脉血后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5mi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内服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75g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葡萄糖，然后分别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0mi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小时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小时采集静脉血测葡萄糖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毛细血管血葡萄糖测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不同时间的快速血糖仪血糖值有着不同的意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468360" y="1267920"/>
            <a:ext cx="8370720" cy="32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第三节 应激性高血糖患者的护理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763280" y="333360"/>
            <a:ext cx="576108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病例分享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38080" y="1143000"/>
            <a:ext cx="73152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詹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XX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，女，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83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岁，因“突发右侧肢体无力伴失语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4h” 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以脑梗死收入院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CT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示：左侧大脑半球大面积出血性脑梗死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入院后第二天 ，因“呼吸困难，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Sp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 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下降”转入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ICU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。患者神志处于浅昏迷状态，双侧瞳孔不等大，左侧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3mm,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对光反射迟钝；右侧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4mm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，对光反射灵敏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T 38.2℃ ,HR  90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分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, R 35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分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,BP 96/54mmHg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随机指血糖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13.9mmol/L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；生化血糖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12.4mmol/L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；尿糖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++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）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；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糖化血红蛋白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HbA1c)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：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5.8%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患者既往无糖尿病史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问题：患者为什么会出现高血糖现象？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71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9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843280" y="1915920"/>
            <a:ext cx="396072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内分泌系统应用生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内分泌系统临床监护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应激性高血糖患者的护理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91160" y="2276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16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 Box 17"/>
          <p:cNvSpPr/>
          <p:nvPr/>
        </p:nvSpPr>
        <p:spPr>
          <a:xfrm>
            <a:off x="1973880" y="456876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Verdana"/>
                <a:ea typeface="宋体"/>
              </a:rPr>
              <a:t>糖尿病</a:t>
            </a:r>
            <a:r>
              <a:rPr b="1" lang="en-US" sz="3400" spc="-1" strike="noStrike">
                <a:solidFill>
                  <a:srgbClr val="ffffff"/>
                </a:solidFill>
                <a:latin typeface="Verdana"/>
                <a:ea typeface="宋体"/>
              </a:rPr>
              <a:t>(diabetes mellitus DM)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28600" y="2743200"/>
            <a:ext cx="861048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糖尿病是一组由多病因引起的以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慢性高血糖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为特征的代谢性疾病，是由于胰岛素分泌和（或）作用缺陷所引起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74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5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8ac8de"/>
              </a:solidFill>
              <a:latin typeface="Verdana"/>
              <a:ea typeface="宋体"/>
            </a:endParaRPr>
          </a:p>
        </p:txBody>
      </p:sp>
      <p:pic>
        <p:nvPicPr>
          <p:cNvPr id="177" name="Picture 4" descr="$GZZH4~LP0AM6`ZD1V4IJDP"/>
          <p:cNvPicPr/>
          <p:nvPr/>
        </p:nvPicPr>
        <p:blipFill>
          <a:blip r:embed="rId1"/>
          <a:stretch/>
        </p:blipFill>
        <p:spPr>
          <a:xfrm>
            <a:off x="457200" y="228600"/>
            <a:ext cx="8381880" cy="586728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3" descr="C:\Users\Administrator\Desktop\最终2.jpg"/>
          <p:cNvPicPr/>
          <p:nvPr/>
        </p:nvPicPr>
        <p:blipFill>
          <a:blip r:embed="rId2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1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55280" y="333360"/>
            <a:ext cx="7162920" cy="64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糖化血红蛋白（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HbA1c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0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181" name="AutoShape 4"/>
          <p:cNvSpPr/>
          <p:nvPr/>
        </p:nvSpPr>
        <p:spPr>
          <a:xfrm>
            <a:off x="826920" y="1557360"/>
            <a:ext cx="7561440" cy="4392720"/>
          </a:xfrm>
          <a:prstGeom prst="wedgeRoundRectCallout">
            <a:avLst>
              <a:gd name="adj1" fmla="val -19365"/>
              <a:gd name="adj2" fmla="val -19462"/>
              <a:gd name="adj3" fmla="val 16667"/>
            </a:avLst>
          </a:prstGeom>
          <a:solidFill>
            <a:srgbClr val="ccffff">
              <a:alpha val="94000"/>
            </a:srgbClr>
          </a:solidFill>
          <a:ln w="9360">
            <a:solidFill>
              <a:srgbClr val="046ca6"/>
            </a:solidFill>
            <a:miter/>
          </a:ln>
          <a:effectLst>
            <a:outerShdw dist="0" dir="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糖化血红蛋白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HbA1c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：是人体血液中红细胞内的血红蛋白与血糖结合的产物。血糖和血红蛋白结合生成的糖化血红蛋白是不可逆反应，糖化血红蛋白与血糖浓度成正比，测试糖化血红蛋白可以反映患者近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8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周的血糖控制情况。正常值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%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6%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7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920"/>
            <a:ext cx="8077320" cy="39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享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38080" y="1143000"/>
            <a:ext cx="73152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詹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XX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，女，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83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岁，因“突发右侧肢体无力伴失语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4h” 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以脑梗死收入院。</a:t>
            </a:r>
            <a:endParaRPr b="1" lang="en-US" sz="19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CT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示：左侧大脑半球大面积出血性脑梗死。</a:t>
            </a:r>
            <a:endParaRPr b="1" lang="en-US" sz="19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入院后第二天 ，因“呼吸困难，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SpO</a:t>
            </a:r>
            <a:r>
              <a:rPr b="1" lang="en-US" sz="19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 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下降”转入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ICU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。患者神志处于浅昏迷状态，双侧瞳孔不等大，左侧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3mm,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对光反射迟钝；右侧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4mm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，对光反射灵敏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T 38.2℃ ,HR  90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分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,R 35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分 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,BP 96/54mmHg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1" lang="en-US" sz="19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随机指血糖 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13.9mmol/L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；生化血糖 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12.4mmol/L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；尿糖</a:t>
            </a:r>
            <a:endParaRPr b="1" lang="en-US" sz="19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++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）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；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糖化血红蛋白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HbA1c)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：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5.8%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1" lang="en-US" sz="19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患者既往无糖尿病史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1" lang="en-US" sz="19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不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完全符合糖尿病条件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84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9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1128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Verdana"/>
                <a:ea typeface="宋体"/>
              </a:rPr>
              <a:t>一 应激性高血糖的概念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8381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激性高血糖：是指机体在受到严重创伤、脑血管意外、急性心肌梗死、感染、休克等强烈刺激时出现的以血糖升高、尿糖以及糖耐量降低为主要表现的病理现象 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认可的标准为：当机体受到强烈刺激时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次空腹血糖≥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6.9mmol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／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L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或随机血糖≥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1.1mmol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／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L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者为应激性高血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87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5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Verdana"/>
                <a:ea typeface="宋体"/>
              </a:rPr>
              <a:t>应激性高血糖与糖尿病的区别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69160" cy="16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若血糖高，糖化血红蛋白正常，是应激性高血糖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若两者同时增高，可能是糖尿病高血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90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191" name="AutoShape 5"/>
          <p:cNvSpPr/>
          <p:nvPr/>
        </p:nvSpPr>
        <p:spPr>
          <a:xfrm>
            <a:off x="971640" y="3068640"/>
            <a:ext cx="7200720" cy="3044880"/>
          </a:xfrm>
          <a:prstGeom prst="wedgeRoundRectCallout">
            <a:avLst>
              <a:gd name="adj1" fmla="val -21847"/>
              <a:gd name="adj2" fmla="val -49893"/>
              <a:gd name="adj3" fmla="val 16667"/>
            </a:avLst>
          </a:prstGeom>
          <a:solidFill>
            <a:srgbClr val="ccffff">
              <a:alpha val="94000"/>
            </a:srgbClr>
          </a:solidFill>
          <a:ln w="9360">
            <a:solidFill>
              <a:srgbClr val="046ca6"/>
            </a:solidFill>
            <a:miter/>
          </a:ln>
          <a:effectLst>
            <a:outerShdw dist="0" dir="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糖化血红蛋白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HbA1c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：是人体血液中红细胞内的血红蛋白与血糖结合的产物。血糖和血红蛋白结合生成的糖化血红蛋白是不可逆反应，糖化血红蛋白与血糖浓度成正比，测试糖化血红蛋白可以反应患者近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8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周的血糖控制情况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1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920"/>
            <a:ext cx="8077320" cy="39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享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38080" y="1143000"/>
            <a:ext cx="73152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詹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XX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，女，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83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岁，因“突发右侧肢体无力伴失语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4h”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以脑梗死收入院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CT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示：左侧大脑半球大面积出血性脑梗死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入院后第二天 ，因“呼吸困难，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Sp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下降”转入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ICU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。患者神志处于浅昏迷状态，双侧瞳孔不等大，左侧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3mm,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对光反射迟钝；右侧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4mm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，对光反射灵敏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T 38.2℃ ,HR  90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分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,R 35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分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,BP 96/54mmHg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随机指血糖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13.9mmol/L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；生化血糖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12.4mmol/L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；尿糖（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++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）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；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糖化血红蛋白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HbA1c)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：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5.8%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患者既往无糖尿病史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考虑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该患者更符合“应激性高血糖”的条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94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1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3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609588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Verdana"/>
                <a:ea typeface="宋体"/>
              </a:rPr>
              <a:t>应激性高血糖与糖尿病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4920" y="1863360"/>
            <a:ext cx="8610480" cy="38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共同点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高血糖以及高血糖引起的高渗、高感染、糖耐量降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不同点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激性高血糖在多种应激疾病中发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激性高血糖为急性、短时间的血糖升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激性高血糖以外周“胰岛素抵抗”为突出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多数应激性高血糖患者血清胰岛素、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c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肽增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激性高血糖伴随高代谢，以糖异生为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97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9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宋体"/>
                <a:ea typeface="宋体"/>
              </a:rPr>
              <a:t>二 应激性高血糖的发生机制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6920" y="1483920"/>
            <a:ext cx="61405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ddb523"/>
                </a:solidFill>
                <a:uFillTx/>
                <a:latin typeface="Verdana"/>
                <a:ea typeface="宋体"/>
                <a:hlinkClick r:id="rId1" action="ppaction://hlinksldjump"/>
              </a:rPr>
              <a:t>神经内分泌参与的激素调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ddb523"/>
                </a:solidFill>
                <a:uFillTx/>
                <a:latin typeface="Verdana"/>
                <a:ea typeface="宋体"/>
                <a:hlinkClick r:id="rId2" action="ppaction://hlinksldjump"/>
              </a:rPr>
              <a:t>胰岛素抵抗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ddb523"/>
                </a:solidFill>
                <a:uFillTx/>
                <a:latin typeface="Verdana"/>
                <a:ea typeface="宋体"/>
                <a:hlinkClick r:id="rId3" action="ppaction://hlinksldjump"/>
              </a:rPr>
              <a:t>细胞因子作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ddb523"/>
                </a:solidFill>
                <a:uFillTx/>
                <a:latin typeface="Verdana"/>
                <a:ea typeface="宋体"/>
                <a:hlinkClick r:id="rId4" action="ppaction://hlinksldjump"/>
              </a:rPr>
              <a:t>其他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00" name="Picture 3" descr="C:\Users\Administrator\Desktop\最终2.jpg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5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042920" y="333000"/>
            <a:ext cx="66960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神经内分泌参与的激素调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3818160" cy="450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e230c"/>
                </a:solidFill>
                <a:latin typeface="Verdana"/>
                <a:ea typeface="宋体"/>
              </a:rPr>
              <a:t>胰岛素：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促进全身组织对糖的摄取、储存和利用，从而使血糖浓度降低。胰岛素是体内唯一降低血糖浓度的激素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e230c"/>
                </a:solidFill>
                <a:latin typeface="Verdana"/>
                <a:ea typeface="宋体"/>
              </a:rPr>
              <a:t>胰高血糖素：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与胰岛素的作用相反，促进肝糖原分解进入血液，促进脂肪酸和氨基酸等非糖物质转化成葡萄糖，最终使血糖含量升高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肾上腺素、肾上腺糖皮质激素、甲状腺激素、生长激素等均有升高血糖的功能。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03" name="Picture 4" descr="图11-3"/>
          <p:cNvPicPr/>
          <p:nvPr/>
        </p:nvPicPr>
        <p:blipFill>
          <a:blip r:embed="rId1"/>
          <a:stretch/>
        </p:blipFill>
        <p:spPr>
          <a:xfrm>
            <a:off x="4343400" y="1143000"/>
            <a:ext cx="4800600" cy="498780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3" descr="C:\Users\Administrator\Desktop\最终2.jpg"/>
          <p:cNvPicPr/>
          <p:nvPr/>
        </p:nvPicPr>
        <p:blipFill>
          <a:blip r:embed="rId2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1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24000" y="1628640"/>
            <a:ext cx="8610480" cy="31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描述内分泌系统疾病的护理评估方法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理解内分泌与激素对维持内环境稳定性的重要作用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理解应激性高血糖对机体的危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评估应激性高血糖患者病情，为其制订护理计划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DA163-B623-4CFE-84BD-F0A98EE28C7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6507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Verdana"/>
                <a:ea typeface="宋体"/>
              </a:rPr>
              <a:t>血浆中葡萄糖的合成与分解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6" name="Picture 3" descr="C:\Users\Administrator\Desktop\最终2.jpg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4" descr="图11-2"/>
          <p:cNvPicPr/>
          <p:nvPr/>
        </p:nvPicPr>
        <p:blipFill>
          <a:blip r:embed="rId3"/>
          <a:stretch/>
        </p:blipFill>
        <p:spPr>
          <a:xfrm>
            <a:off x="684360" y="1127160"/>
            <a:ext cx="7343640" cy="537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7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763640" y="-360"/>
            <a:ext cx="4724640" cy="101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Verdana"/>
                <a:ea typeface="宋体"/>
              </a:rPr>
              <a:t>机体对胰岛素抵抗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703440" y="1617480"/>
            <a:ext cx="8053200" cy="434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外周组织对葡萄糖的摄取和利用降低，体内存在“高胰岛素、高血糖”水平现象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胰岛素抵抗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(IR)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的三种形式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92a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胰岛素的效应器官（靶器官）对胰岛素的敏感性降低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92a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靶器官对胰岛素的反应性降低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92a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靶器官对胰岛素的敏感性和反应性均降低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研究表明：危重患者常出现胰岛素抵抗现象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10" name="Picture 3" descr="C:\Users\Administrator\Desktop\最终2.jpg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3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050560" y="0"/>
            <a:ext cx="533412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Verdana"/>
                <a:ea typeface="宋体"/>
              </a:rPr>
              <a:t>细胞因子的作用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94920" y="1557360"/>
            <a:ext cx="83818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肿瘤坏死因子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-α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TNF-α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白细胞介素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-1(IL-1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白细胞介素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-6(IL-6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13" name="Picture 3" descr="C:\Users\Administrator\Desktop\最终2.jpg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9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533520" y="1447560"/>
            <a:ext cx="50292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某些药物如利尿剂、抗结核药物、肠内肠外营养支持、甲状腺素、生长激素、糖皮质激素、甘露醇等均可导致血糖升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15" name="Picture 3" descr="1305091749532094"/>
          <p:cNvPicPr/>
          <p:nvPr/>
        </p:nvPicPr>
        <p:blipFill>
          <a:blip r:embed="rId1"/>
          <a:stretch/>
        </p:blipFill>
        <p:spPr>
          <a:xfrm>
            <a:off x="5796000" y="3357720"/>
            <a:ext cx="3097080" cy="258120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4" descr="1349855532"/>
          <p:cNvPicPr/>
          <p:nvPr/>
        </p:nvPicPr>
        <p:blipFill>
          <a:blip r:embed="rId2"/>
          <a:stretch/>
        </p:blipFill>
        <p:spPr>
          <a:xfrm>
            <a:off x="5943600" y="533520"/>
            <a:ext cx="2732040" cy="262260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3" descr="C:\Users\Administrator\Desktop\最终2.jpg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5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332000" y="0"/>
            <a:ext cx="624816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Verdana"/>
                <a:ea typeface="宋体"/>
              </a:rPr>
              <a:t>三 应激性高血糖的危害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9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220" name="Text Box 4"/>
          <p:cNvSpPr/>
          <p:nvPr/>
        </p:nvSpPr>
        <p:spPr>
          <a:xfrm>
            <a:off x="971640" y="1484280"/>
            <a:ext cx="7467480" cy="733680"/>
          </a:xfrm>
          <a:prstGeom prst="rect">
            <a:avLst/>
          </a:prstGeom>
          <a:solidFill>
            <a:srgbClr val="66ccff"/>
          </a:solidFill>
          <a:ln w="0">
            <a:noFill/>
          </a:ln>
          <a:effectLst>
            <a:outerShdw dist="107932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水电解质和酸碱平衡紊乱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Text Box 5"/>
          <p:cNvSpPr/>
          <p:nvPr/>
        </p:nvSpPr>
        <p:spPr>
          <a:xfrm>
            <a:off x="1042920" y="2565360"/>
            <a:ext cx="7391520" cy="1373400"/>
          </a:xfrm>
          <a:prstGeom prst="rect">
            <a:avLst/>
          </a:prstGeom>
          <a:solidFill>
            <a:srgbClr val="3399ff"/>
          </a:solidFill>
          <a:ln w="0">
            <a:noFill/>
          </a:ln>
          <a:effectLst>
            <a:outerShdw dist="107932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免疫力下降，伤口愈合延迟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易发生感染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MODS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Text Box 8"/>
          <p:cNvSpPr/>
          <p:nvPr/>
        </p:nvSpPr>
        <p:spPr>
          <a:xfrm>
            <a:off x="971640" y="4292640"/>
            <a:ext cx="7467480" cy="733680"/>
          </a:xfrm>
          <a:prstGeom prst="rect">
            <a:avLst/>
          </a:prstGeom>
          <a:solidFill>
            <a:srgbClr val="0066ff"/>
          </a:solidFill>
          <a:ln w="0">
            <a:noFill/>
          </a:ln>
          <a:effectLst>
            <a:outerShdw dist="107932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严重者可导致酮症酸中毒或高渗高血糖综合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1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066320" y="457200"/>
            <a:ext cx="716292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Verdana"/>
                <a:ea typeface="宋体"/>
              </a:rPr>
              <a:t>四 应激性高血糖的控制策略</a:t>
            </a:r>
            <a:br>
              <a:rPr sz="3400"/>
            </a:b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294920" y="1447560"/>
            <a:ext cx="7239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积极控制原发病，尽早脱离应激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首选小剂量胰岛素静脉微量泵入疗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静脉用药添加胰岛素对抗（胰：糖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25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226" name="AutoShape 5"/>
          <p:cNvSpPr/>
          <p:nvPr/>
        </p:nvSpPr>
        <p:spPr>
          <a:xfrm>
            <a:off x="685800" y="1676520"/>
            <a:ext cx="533520" cy="1143000"/>
          </a:xfrm>
          <a:custGeom>
            <a:avLst/>
            <a:gdLst>
              <a:gd name="textAreaLeft" fmla="*/ 71280 w 533520"/>
              <a:gd name="textAreaRight" fmla="*/ 462240 w 53352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AutoShape 6"/>
          <p:cNvSpPr/>
          <p:nvPr/>
        </p:nvSpPr>
        <p:spPr>
          <a:xfrm>
            <a:off x="685800" y="2971800"/>
            <a:ext cx="533520" cy="1143000"/>
          </a:xfrm>
          <a:custGeom>
            <a:avLst/>
            <a:gdLst>
              <a:gd name="textAreaLeft" fmla="*/ 71280 w 533520"/>
              <a:gd name="textAreaRight" fmla="*/ 462240 w 53352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beve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2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26920" y="189000"/>
            <a:ext cx="78487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Verdana"/>
                <a:ea typeface="宋体"/>
              </a:rPr>
              <a:t>积极控制原发病，尽早脱离应激原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84120" y="1700280"/>
            <a:ext cx="7972560" cy="36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维持术中循环稳定，改进手术技术，缩短手术时间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术后做好镇静、镇痛、降温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控制好术后血液循环，维持水电解质酸碱平衡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改善心肺功能，降低肺高压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积极预防和抗感染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30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8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116000" y="0"/>
            <a:ext cx="739152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Verdana"/>
                <a:ea typeface="宋体"/>
              </a:rPr>
              <a:t>小剂量胰岛素静脉微量泵入疗法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3906720" cy="90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危重患者血糖目标</a:t>
            </a:r>
            <a:r>
              <a:rPr b="1" lang="zh-CN" sz="30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cc"/>
                </a:solidFill>
                <a:latin typeface="Verdana"/>
                <a:ea typeface="宋体"/>
              </a:rPr>
              <a:t>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3" name="AutoShape 4"/>
          <p:cNvSpPr/>
          <p:nvPr/>
        </p:nvSpPr>
        <p:spPr>
          <a:xfrm>
            <a:off x="684360" y="3068640"/>
            <a:ext cx="8229600" cy="2808360"/>
          </a:xfrm>
          <a:prstGeom prst="wedgeRectCallout">
            <a:avLst>
              <a:gd name="adj1" fmla="val -25694"/>
              <a:gd name="adj2" fmla="val -84990"/>
            </a:avLst>
          </a:prstGeom>
          <a:solidFill>
            <a:srgbClr val="ccffff"/>
          </a:solidFill>
          <a:ln w="9360">
            <a:solidFill>
              <a:srgbClr val="046ca6"/>
            </a:solidFill>
            <a:miter/>
          </a:ln>
          <a:effectLst>
            <a:outerShdw dist="0" dir="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血糖大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0mmol/L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，开始静脉小剂量胰岛素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控制血糖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8.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0mmol/L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为目标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4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94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Verdana"/>
                <a:ea typeface="宋体"/>
              </a:rPr>
              <a:t>小剂量胰岛素静脉微量泵入疗法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2242440"/>
            <a:ext cx="7201080" cy="189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胰岛素的配制方法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Verdana"/>
                <a:ea typeface="宋体"/>
              </a:rPr>
              <a:t>          </a:t>
            </a:r>
            <a:endParaRPr b="1" lang="en-US" sz="9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0.9%NS50ml+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胰岛素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0U 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→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1U/ml 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→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 ml/h 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→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U/h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37" name="Picture 4" descr="2005101370889721"/>
          <p:cNvPicPr/>
          <p:nvPr/>
        </p:nvPicPr>
        <p:blipFill>
          <a:blip r:embed="rId1"/>
          <a:stretch/>
        </p:blipFill>
        <p:spPr>
          <a:xfrm>
            <a:off x="4595760" y="4191120"/>
            <a:ext cx="4548240" cy="241452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3" descr="C:\Users\Administrator\Desktop\最终2.jpg"/>
          <p:cNvPicPr/>
          <p:nvPr/>
        </p:nvPicPr>
        <p:blipFill>
          <a:blip r:embed="rId2"/>
          <a:stretch/>
        </p:blipFill>
        <p:spPr>
          <a:xfrm>
            <a:off x="7848720" y="5562720"/>
            <a:ext cx="1218960" cy="1218960"/>
          </a:xfrm>
          <a:prstGeom prst="rect">
            <a:avLst/>
          </a:prstGeom>
          <a:ln w="0">
            <a:noFill/>
          </a:ln>
        </p:spPr>
      </p:pic>
      <p:sp>
        <p:nvSpPr>
          <p:cNvPr id="239" name="AutoShape 6"/>
          <p:cNvSpPr/>
          <p:nvPr/>
        </p:nvSpPr>
        <p:spPr>
          <a:xfrm>
            <a:off x="6248520" y="2514600"/>
            <a:ext cx="152280" cy="76320"/>
          </a:xfrm>
          <a:prstGeom prst="rightArrow">
            <a:avLst>
              <a:gd name="adj1" fmla="val 50000"/>
              <a:gd name="adj2" fmla="val 49882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AutoShape 7"/>
          <p:cNvSpPr/>
          <p:nvPr/>
        </p:nvSpPr>
        <p:spPr>
          <a:xfrm>
            <a:off x="6095880" y="2133720"/>
            <a:ext cx="1219320" cy="228600"/>
          </a:xfrm>
          <a:prstGeom prst="rightArrow">
            <a:avLst>
              <a:gd name="adj1" fmla="val 50000"/>
              <a:gd name="adj2" fmla="val 13334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0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899640" y="907920"/>
            <a:ext cx="7186680" cy="151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Garamond"/>
                <a:ea typeface="宋体"/>
              </a:rPr>
              <a:t>胰岛素的用量</a:t>
            </a: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8ac8de"/>
                </a:solidFill>
                <a:latin typeface="Verdana"/>
                <a:ea typeface="宋体"/>
              </a:rPr>
              <a:t>根据</a:t>
            </a:r>
            <a:r>
              <a:rPr b="1" lang="zh-CN" sz="2600" spc="-1" strike="noStrike">
                <a:solidFill>
                  <a:srgbClr val="ff3300"/>
                </a:solidFill>
                <a:latin typeface="Verdana"/>
                <a:ea typeface="宋体"/>
              </a:rPr>
              <a:t>血糖水平</a:t>
            </a:r>
            <a:r>
              <a:rPr b="1" lang="zh-CN" sz="2600" spc="-1" strike="noStrike">
                <a:solidFill>
                  <a:srgbClr val="8ac8de"/>
                </a:solidFill>
                <a:latin typeface="Verdana"/>
                <a:ea typeface="宋体"/>
              </a:rPr>
              <a:t>和</a:t>
            </a:r>
            <a:r>
              <a:rPr b="1" lang="zh-CN" sz="2600" spc="-1" strike="noStrike">
                <a:solidFill>
                  <a:srgbClr val="ff3300"/>
                </a:solidFill>
                <a:latin typeface="Verdana"/>
                <a:ea typeface="宋体"/>
              </a:rPr>
              <a:t>变化幅度</a:t>
            </a:r>
            <a:r>
              <a:rPr b="1" lang="zh-CN" sz="2600" spc="-1" strike="noStrike">
                <a:solidFill>
                  <a:srgbClr val="8ac8de"/>
                </a:solidFill>
                <a:latin typeface="Verdana"/>
                <a:ea typeface="宋体"/>
              </a:rPr>
              <a:t>调节胰岛素的用量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8ac8de"/>
                </a:solidFill>
                <a:latin typeface="Verdana"/>
                <a:ea typeface="宋体"/>
              </a:rPr>
              <a:t>          </a:t>
            </a:r>
            <a:endParaRPr b="1" lang="en-US" sz="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     </a:t>
            </a:r>
            <a:endParaRPr b="1" lang="en-US" sz="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42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848720" y="5562720"/>
            <a:ext cx="1218960" cy="121896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4" descr="QQ图片20141218203706"/>
          <p:cNvPicPr/>
          <p:nvPr/>
        </p:nvPicPr>
        <p:blipFill>
          <a:blip r:embed="rId2"/>
          <a:stretch/>
        </p:blipFill>
        <p:spPr>
          <a:xfrm>
            <a:off x="533520" y="2743200"/>
            <a:ext cx="807696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6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1187280" y="1844280"/>
            <a:ext cx="676944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  <a:ea typeface="宋体"/>
              </a:rPr>
              <a:t>第一节 内分泌系统应用生理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050920" y="0"/>
            <a:ext cx="464832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Verdana"/>
                <a:ea typeface="宋体"/>
              </a:rPr>
              <a:t>血糖下降的幅度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95280" y="1699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血糖下降的速度太快，容易造成脑水肿和低血糖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46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5" descr=""/>
          <p:cNvPicPr/>
          <p:nvPr/>
        </p:nvPicPr>
        <p:blipFill>
          <a:blip r:embed="rId2"/>
          <a:stretch/>
        </p:blipFill>
        <p:spPr>
          <a:xfrm>
            <a:off x="1676520" y="3276720"/>
            <a:ext cx="6019560" cy="2209680"/>
          </a:xfrm>
          <a:prstGeom prst="rect">
            <a:avLst/>
          </a:prstGeom>
          <a:ln w="0">
            <a:noFill/>
          </a:ln>
        </p:spPr>
      </p:pic>
      <p:sp>
        <p:nvSpPr>
          <p:cNvPr id="248" name="Rectangle 6"/>
          <p:cNvSpPr/>
          <p:nvPr/>
        </p:nvSpPr>
        <p:spPr>
          <a:xfrm>
            <a:off x="7354440" y="4913280"/>
            <a:ext cx="122796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  <a:ea typeface="宋体"/>
              </a:rPr>
              <a:t>/h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12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AutoShape 2"/>
          <p:cNvSpPr/>
          <p:nvPr/>
        </p:nvSpPr>
        <p:spPr>
          <a:xfrm>
            <a:off x="5029200" y="3733920"/>
            <a:ext cx="3352680" cy="2286000"/>
          </a:xfrm>
          <a:prstGeom prst="roundRect">
            <a:avLst>
              <a:gd name="adj" fmla="val 10347"/>
            </a:avLst>
          </a:prstGeom>
          <a:solidFill>
            <a:srgbClr val="ffffff"/>
          </a:solidFill>
          <a:ln w="50760">
            <a:solidFill>
              <a:srgbClr val="8ac8de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547640" y="333360"/>
            <a:ext cx="5160960" cy="42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动态调整胰岛素用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1" name="AutoShape 4"/>
          <p:cNvSpPr/>
          <p:nvPr/>
        </p:nvSpPr>
        <p:spPr>
          <a:xfrm>
            <a:off x="762120" y="3733920"/>
            <a:ext cx="3352680" cy="2286000"/>
          </a:xfrm>
          <a:prstGeom prst="roundRect">
            <a:avLst>
              <a:gd name="adj" fmla="val 10347"/>
            </a:avLst>
          </a:prstGeom>
          <a:solidFill>
            <a:srgbClr val="ffffff"/>
          </a:solidFill>
          <a:ln w="50760">
            <a:solidFill>
              <a:srgbClr val="969696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52" name="Group 5"/>
          <p:cNvGrpSpPr/>
          <p:nvPr/>
        </p:nvGrpSpPr>
        <p:grpSpPr>
          <a:xfrm>
            <a:off x="3505320" y="1828800"/>
            <a:ext cx="790560" cy="1976400"/>
            <a:chOff x="3505320" y="1828800"/>
            <a:chExt cx="790560" cy="1976400"/>
          </a:xfrm>
        </p:grpSpPr>
        <p:sp>
          <p:nvSpPr>
            <p:cNvPr id="253" name="Freeform 6"/>
            <p:cNvSpPr/>
            <p:nvPr/>
          </p:nvSpPr>
          <p:spPr>
            <a:xfrm>
              <a:off x="3697560" y="1828800"/>
              <a:ext cx="369720" cy="403200"/>
            </a:xfrm>
            <a:custGeom>
              <a:avLst/>
              <a:gdLst>
                <a:gd name="textAreaLeft" fmla="*/ 0 w 369720"/>
                <a:gd name="textAreaRight" fmla="*/ 370080 w 369720"/>
                <a:gd name="textAreaTop" fmla="*/ 0 h 403200"/>
                <a:gd name="textAreaBottom" fmla="*/ 403560 h 403200"/>
              </a:gdLst>
              <a:ahLst/>
              <a:rect l="textAreaLeft" t="textAreaTop" r="textAreaRight" b="textAreaBottom"/>
              <a:pathLst>
                <a:path w="267" h="292">
                  <a:moveTo>
                    <a:pt x="133" y="0"/>
                  </a:moveTo>
                  <a:lnTo>
                    <a:pt x="161" y="3"/>
                  </a:lnTo>
                  <a:lnTo>
                    <a:pt x="186" y="12"/>
                  </a:lnTo>
                  <a:lnTo>
                    <a:pt x="209" y="25"/>
                  </a:lnTo>
                  <a:lnTo>
                    <a:pt x="228" y="42"/>
                  </a:lnTo>
                  <a:lnTo>
                    <a:pt x="245" y="64"/>
                  </a:lnTo>
                  <a:lnTo>
                    <a:pt x="257" y="88"/>
                  </a:lnTo>
                  <a:lnTo>
                    <a:pt x="265" y="116"/>
                  </a:lnTo>
                  <a:lnTo>
                    <a:pt x="267" y="146"/>
                  </a:lnTo>
                  <a:lnTo>
                    <a:pt x="265" y="175"/>
                  </a:lnTo>
                  <a:lnTo>
                    <a:pt x="257" y="203"/>
                  </a:lnTo>
                  <a:lnTo>
                    <a:pt x="245" y="227"/>
                  </a:lnTo>
                  <a:lnTo>
                    <a:pt x="228" y="249"/>
                  </a:lnTo>
                  <a:lnTo>
                    <a:pt x="209" y="267"/>
                  </a:lnTo>
                  <a:lnTo>
                    <a:pt x="186" y="281"/>
                  </a:lnTo>
                  <a:lnTo>
                    <a:pt x="161" y="289"/>
                  </a:lnTo>
                  <a:lnTo>
                    <a:pt x="133" y="292"/>
                  </a:lnTo>
                  <a:lnTo>
                    <a:pt x="103" y="288"/>
                  </a:lnTo>
                  <a:lnTo>
                    <a:pt x="75" y="277"/>
                  </a:lnTo>
                  <a:lnTo>
                    <a:pt x="51" y="260"/>
                  </a:lnTo>
                  <a:lnTo>
                    <a:pt x="29" y="237"/>
                  </a:lnTo>
                  <a:lnTo>
                    <a:pt x="13" y="210"/>
                  </a:lnTo>
                  <a:lnTo>
                    <a:pt x="4" y="178"/>
                  </a:lnTo>
                  <a:lnTo>
                    <a:pt x="0" y="146"/>
                  </a:lnTo>
                  <a:lnTo>
                    <a:pt x="4" y="113"/>
                  </a:lnTo>
                  <a:lnTo>
                    <a:pt x="13" y="81"/>
                  </a:lnTo>
                  <a:lnTo>
                    <a:pt x="29" y="54"/>
                  </a:lnTo>
                  <a:lnTo>
                    <a:pt x="51" y="32"/>
                  </a:lnTo>
                  <a:lnTo>
                    <a:pt x="75" y="14"/>
                  </a:lnTo>
                  <a:lnTo>
                    <a:pt x="103" y="3"/>
                  </a:lnTo>
                  <a:lnTo>
                    <a:pt x="133" y="0"/>
                  </a:lnTo>
                  <a:close/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4" name="Freeform 7"/>
            <p:cNvSpPr/>
            <p:nvPr/>
          </p:nvSpPr>
          <p:spPr>
            <a:xfrm>
              <a:off x="3505320" y="2274840"/>
              <a:ext cx="790560" cy="1530360"/>
            </a:xfrm>
            <a:custGeom>
              <a:avLst/>
              <a:gdLst>
                <a:gd name="textAreaLeft" fmla="*/ 0 w 790560"/>
                <a:gd name="textAreaRight" fmla="*/ 790920 w 790560"/>
                <a:gd name="textAreaTop" fmla="*/ 0 h 1530360"/>
                <a:gd name="textAreaBottom" fmla="*/ 1530720 h 1530360"/>
              </a:gdLst>
              <a:ahLst/>
              <a:rect l="textAreaLeft" t="textAreaTop" r="textAreaRight" b="textAreaBottom"/>
              <a:pathLst>
                <a:path w="573" h="1111">
                  <a:moveTo>
                    <a:pt x="94" y="0"/>
                  </a:moveTo>
                  <a:lnTo>
                    <a:pt x="72" y="5"/>
                  </a:lnTo>
                  <a:lnTo>
                    <a:pt x="50" y="16"/>
                  </a:lnTo>
                  <a:lnTo>
                    <a:pt x="30" y="32"/>
                  </a:lnTo>
                  <a:lnTo>
                    <a:pt x="15" y="53"/>
                  </a:lnTo>
                  <a:lnTo>
                    <a:pt x="4" y="75"/>
                  </a:lnTo>
                  <a:lnTo>
                    <a:pt x="0" y="99"/>
                  </a:lnTo>
                  <a:lnTo>
                    <a:pt x="0" y="509"/>
                  </a:lnTo>
                  <a:lnTo>
                    <a:pt x="0" y="511"/>
                  </a:lnTo>
                  <a:lnTo>
                    <a:pt x="1" y="516"/>
                  </a:lnTo>
                  <a:lnTo>
                    <a:pt x="4" y="525"/>
                  </a:lnTo>
                  <a:lnTo>
                    <a:pt x="9" y="533"/>
                  </a:lnTo>
                  <a:lnTo>
                    <a:pt x="16" y="543"/>
                  </a:lnTo>
                  <a:lnTo>
                    <a:pt x="26" y="550"/>
                  </a:lnTo>
                  <a:lnTo>
                    <a:pt x="39" y="556"/>
                  </a:lnTo>
                  <a:lnTo>
                    <a:pt x="56" y="557"/>
                  </a:lnTo>
                  <a:lnTo>
                    <a:pt x="72" y="556"/>
                  </a:lnTo>
                  <a:lnTo>
                    <a:pt x="84" y="551"/>
                  </a:lnTo>
                  <a:lnTo>
                    <a:pt x="92" y="543"/>
                  </a:lnTo>
                  <a:lnTo>
                    <a:pt x="100" y="534"/>
                  </a:lnTo>
                  <a:lnTo>
                    <a:pt x="103" y="525"/>
                  </a:lnTo>
                  <a:lnTo>
                    <a:pt x="106" y="516"/>
                  </a:lnTo>
                  <a:lnTo>
                    <a:pt x="107" y="508"/>
                  </a:lnTo>
                  <a:lnTo>
                    <a:pt x="108" y="503"/>
                  </a:lnTo>
                  <a:lnTo>
                    <a:pt x="108" y="500"/>
                  </a:lnTo>
                  <a:lnTo>
                    <a:pt x="108" y="166"/>
                  </a:lnTo>
                  <a:lnTo>
                    <a:pt x="134" y="167"/>
                  </a:lnTo>
                  <a:lnTo>
                    <a:pt x="135" y="1066"/>
                  </a:lnTo>
                  <a:lnTo>
                    <a:pt x="136" y="1068"/>
                  </a:lnTo>
                  <a:lnTo>
                    <a:pt x="138" y="1073"/>
                  </a:lnTo>
                  <a:lnTo>
                    <a:pt x="143" y="1080"/>
                  </a:lnTo>
                  <a:lnTo>
                    <a:pt x="151" y="1089"/>
                  </a:lnTo>
                  <a:lnTo>
                    <a:pt x="162" y="1097"/>
                  </a:lnTo>
                  <a:lnTo>
                    <a:pt x="174" y="1105"/>
                  </a:lnTo>
                  <a:lnTo>
                    <a:pt x="189" y="1110"/>
                  </a:lnTo>
                  <a:lnTo>
                    <a:pt x="199" y="1111"/>
                  </a:lnTo>
                  <a:lnTo>
                    <a:pt x="217" y="1111"/>
                  </a:lnTo>
                  <a:lnTo>
                    <a:pt x="227" y="1110"/>
                  </a:lnTo>
                  <a:lnTo>
                    <a:pt x="243" y="1105"/>
                  </a:lnTo>
                  <a:lnTo>
                    <a:pt x="255" y="1097"/>
                  </a:lnTo>
                  <a:lnTo>
                    <a:pt x="265" y="1089"/>
                  </a:lnTo>
                  <a:lnTo>
                    <a:pt x="272" y="1080"/>
                  </a:lnTo>
                  <a:lnTo>
                    <a:pt x="276" y="1073"/>
                  </a:lnTo>
                  <a:lnTo>
                    <a:pt x="278" y="1068"/>
                  </a:lnTo>
                  <a:lnTo>
                    <a:pt x="279" y="1066"/>
                  </a:lnTo>
                  <a:lnTo>
                    <a:pt x="279" y="499"/>
                  </a:lnTo>
                  <a:lnTo>
                    <a:pt x="302" y="499"/>
                  </a:lnTo>
                  <a:lnTo>
                    <a:pt x="302" y="503"/>
                  </a:lnTo>
                  <a:lnTo>
                    <a:pt x="302" y="515"/>
                  </a:lnTo>
                  <a:lnTo>
                    <a:pt x="302" y="534"/>
                  </a:lnTo>
                  <a:lnTo>
                    <a:pt x="302" y="560"/>
                  </a:lnTo>
                  <a:lnTo>
                    <a:pt x="304" y="590"/>
                  </a:lnTo>
                  <a:lnTo>
                    <a:pt x="304" y="626"/>
                  </a:lnTo>
                  <a:lnTo>
                    <a:pt x="304" y="664"/>
                  </a:lnTo>
                  <a:lnTo>
                    <a:pt x="304" y="706"/>
                  </a:lnTo>
                  <a:lnTo>
                    <a:pt x="304" y="750"/>
                  </a:lnTo>
                  <a:lnTo>
                    <a:pt x="304" y="793"/>
                  </a:lnTo>
                  <a:lnTo>
                    <a:pt x="304" y="838"/>
                  </a:lnTo>
                  <a:lnTo>
                    <a:pt x="305" y="882"/>
                  </a:lnTo>
                  <a:lnTo>
                    <a:pt x="305" y="926"/>
                  </a:lnTo>
                  <a:lnTo>
                    <a:pt x="305" y="966"/>
                  </a:lnTo>
                  <a:lnTo>
                    <a:pt x="305" y="1004"/>
                  </a:lnTo>
                  <a:lnTo>
                    <a:pt x="305" y="1037"/>
                  </a:lnTo>
                  <a:lnTo>
                    <a:pt x="305" y="1066"/>
                  </a:lnTo>
                  <a:lnTo>
                    <a:pt x="305" y="1067"/>
                  </a:lnTo>
                  <a:lnTo>
                    <a:pt x="306" y="1073"/>
                  </a:lnTo>
                  <a:lnTo>
                    <a:pt x="310" y="1079"/>
                  </a:lnTo>
                  <a:lnTo>
                    <a:pt x="315" y="1088"/>
                  </a:lnTo>
                  <a:lnTo>
                    <a:pt x="323" y="1096"/>
                  </a:lnTo>
                  <a:lnTo>
                    <a:pt x="335" y="1103"/>
                  </a:lnTo>
                  <a:lnTo>
                    <a:pt x="351" y="1108"/>
                  </a:lnTo>
                  <a:lnTo>
                    <a:pt x="372" y="1111"/>
                  </a:lnTo>
                  <a:lnTo>
                    <a:pt x="392" y="1108"/>
                  </a:lnTo>
                  <a:lnTo>
                    <a:pt x="408" y="1103"/>
                  </a:lnTo>
                  <a:lnTo>
                    <a:pt x="420" y="1096"/>
                  </a:lnTo>
                  <a:lnTo>
                    <a:pt x="429" y="1089"/>
                  </a:lnTo>
                  <a:lnTo>
                    <a:pt x="434" y="1080"/>
                  </a:lnTo>
                  <a:lnTo>
                    <a:pt x="437" y="1073"/>
                  </a:lnTo>
                  <a:lnTo>
                    <a:pt x="438" y="1068"/>
                  </a:lnTo>
                  <a:lnTo>
                    <a:pt x="438" y="1067"/>
                  </a:lnTo>
                  <a:lnTo>
                    <a:pt x="440" y="166"/>
                  </a:lnTo>
                  <a:lnTo>
                    <a:pt x="466" y="166"/>
                  </a:lnTo>
                  <a:lnTo>
                    <a:pt x="466" y="500"/>
                  </a:lnTo>
                  <a:lnTo>
                    <a:pt x="468" y="503"/>
                  </a:lnTo>
                  <a:lnTo>
                    <a:pt x="469" y="509"/>
                  </a:lnTo>
                  <a:lnTo>
                    <a:pt x="472" y="517"/>
                  </a:lnTo>
                  <a:lnTo>
                    <a:pt x="477" y="527"/>
                  </a:lnTo>
                  <a:lnTo>
                    <a:pt x="483" y="537"/>
                  </a:lnTo>
                  <a:lnTo>
                    <a:pt x="493" y="545"/>
                  </a:lnTo>
                  <a:lnTo>
                    <a:pt x="505" y="551"/>
                  </a:lnTo>
                  <a:lnTo>
                    <a:pt x="520" y="554"/>
                  </a:lnTo>
                  <a:lnTo>
                    <a:pt x="536" y="551"/>
                  </a:lnTo>
                  <a:lnTo>
                    <a:pt x="548" y="545"/>
                  </a:lnTo>
                  <a:lnTo>
                    <a:pt x="557" y="537"/>
                  </a:lnTo>
                  <a:lnTo>
                    <a:pt x="563" y="527"/>
                  </a:lnTo>
                  <a:lnTo>
                    <a:pt x="570" y="517"/>
                  </a:lnTo>
                  <a:lnTo>
                    <a:pt x="573" y="510"/>
                  </a:lnTo>
                  <a:lnTo>
                    <a:pt x="573" y="508"/>
                  </a:lnTo>
                  <a:lnTo>
                    <a:pt x="573" y="79"/>
                  </a:lnTo>
                  <a:lnTo>
                    <a:pt x="572" y="68"/>
                  </a:lnTo>
                  <a:lnTo>
                    <a:pt x="561" y="47"/>
                  </a:lnTo>
                  <a:lnTo>
                    <a:pt x="546" y="28"/>
                  </a:lnTo>
                  <a:lnTo>
                    <a:pt x="528" y="14"/>
                  </a:lnTo>
                  <a:lnTo>
                    <a:pt x="506" y="4"/>
                  </a:lnTo>
                  <a:lnTo>
                    <a:pt x="485" y="0"/>
                  </a:lnTo>
                  <a:lnTo>
                    <a:pt x="94" y="0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55" name="Text Box 8"/>
          <p:cNvSpPr/>
          <p:nvPr/>
        </p:nvSpPr>
        <p:spPr>
          <a:xfrm>
            <a:off x="1143000" y="4038480"/>
            <a:ext cx="24382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＞</a:t>
            </a: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1.1mmol/L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，增加</a:t>
            </a: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胰岛素</a:t>
            </a: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1U/h;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＜ </a:t>
            </a: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1.1mmol/L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，增加</a:t>
            </a: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胰岛素</a:t>
            </a: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0.5U/h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6" name="Text Box 9"/>
          <p:cNvSpPr/>
          <p:nvPr/>
        </p:nvSpPr>
        <p:spPr>
          <a:xfrm>
            <a:off x="5334120" y="4114800"/>
            <a:ext cx="2819160" cy="143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1.1~4.1mmol/L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胰岛素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速度不变</a:t>
            </a: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;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＞ </a:t>
            </a: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4.1mmol/L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，降低胰岛素</a:t>
            </a: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50%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7" name="Rectangle 10"/>
          <p:cNvSpPr/>
          <p:nvPr/>
        </p:nvSpPr>
        <p:spPr>
          <a:xfrm>
            <a:off x="3345120" y="1219320"/>
            <a:ext cx="321372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根据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宋体"/>
              </a:rPr>
              <a:t>最近两次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血糖值调整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Rectangle 11"/>
          <p:cNvSpPr/>
          <p:nvPr/>
        </p:nvSpPr>
        <p:spPr>
          <a:xfrm>
            <a:off x="3332160" y="2362320"/>
            <a:ext cx="11412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高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59" name="Group 12"/>
          <p:cNvGrpSpPr/>
          <p:nvPr/>
        </p:nvGrpSpPr>
        <p:grpSpPr>
          <a:xfrm>
            <a:off x="4876920" y="2209680"/>
            <a:ext cx="790560" cy="1976400"/>
            <a:chOff x="4876920" y="2209680"/>
            <a:chExt cx="790560" cy="1976400"/>
          </a:xfrm>
        </p:grpSpPr>
        <p:sp>
          <p:nvSpPr>
            <p:cNvPr id="260" name="Freeform 13"/>
            <p:cNvSpPr/>
            <p:nvPr/>
          </p:nvSpPr>
          <p:spPr>
            <a:xfrm>
              <a:off x="5069160" y="2209680"/>
              <a:ext cx="369720" cy="403200"/>
            </a:xfrm>
            <a:custGeom>
              <a:avLst/>
              <a:gdLst>
                <a:gd name="textAreaLeft" fmla="*/ 0 w 369720"/>
                <a:gd name="textAreaRight" fmla="*/ 370080 w 369720"/>
                <a:gd name="textAreaTop" fmla="*/ 0 h 403200"/>
                <a:gd name="textAreaBottom" fmla="*/ 403560 h 403200"/>
              </a:gdLst>
              <a:ahLst/>
              <a:rect l="textAreaLeft" t="textAreaTop" r="textAreaRight" b="textAreaBottom"/>
              <a:pathLst>
                <a:path w="267" h="292">
                  <a:moveTo>
                    <a:pt x="133" y="0"/>
                  </a:moveTo>
                  <a:lnTo>
                    <a:pt x="161" y="3"/>
                  </a:lnTo>
                  <a:lnTo>
                    <a:pt x="186" y="12"/>
                  </a:lnTo>
                  <a:lnTo>
                    <a:pt x="209" y="25"/>
                  </a:lnTo>
                  <a:lnTo>
                    <a:pt x="228" y="42"/>
                  </a:lnTo>
                  <a:lnTo>
                    <a:pt x="245" y="64"/>
                  </a:lnTo>
                  <a:lnTo>
                    <a:pt x="257" y="88"/>
                  </a:lnTo>
                  <a:lnTo>
                    <a:pt x="265" y="116"/>
                  </a:lnTo>
                  <a:lnTo>
                    <a:pt x="267" y="146"/>
                  </a:lnTo>
                  <a:lnTo>
                    <a:pt x="265" y="175"/>
                  </a:lnTo>
                  <a:lnTo>
                    <a:pt x="257" y="203"/>
                  </a:lnTo>
                  <a:lnTo>
                    <a:pt x="245" y="227"/>
                  </a:lnTo>
                  <a:lnTo>
                    <a:pt x="228" y="249"/>
                  </a:lnTo>
                  <a:lnTo>
                    <a:pt x="209" y="267"/>
                  </a:lnTo>
                  <a:lnTo>
                    <a:pt x="186" y="281"/>
                  </a:lnTo>
                  <a:lnTo>
                    <a:pt x="161" y="289"/>
                  </a:lnTo>
                  <a:lnTo>
                    <a:pt x="133" y="292"/>
                  </a:lnTo>
                  <a:lnTo>
                    <a:pt x="103" y="288"/>
                  </a:lnTo>
                  <a:lnTo>
                    <a:pt x="75" y="277"/>
                  </a:lnTo>
                  <a:lnTo>
                    <a:pt x="51" y="260"/>
                  </a:lnTo>
                  <a:lnTo>
                    <a:pt x="29" y="237"/>
                  </a:lnTo>
                  <a:lnTo>
                    <a:pt x="13" y="210"/>
                  </a:lnTo>
                  <a:lnTo>
                    <a:pt x="4" y="178"/>
                  </a:lnTo>
                  <a:lnTo>
                    <a:pt x="0" y="146"/>
                  </a:lnTo>
                  <a:lnTo>
                    <a:pt x="4" y="113"/>
                  </a:lnTo>
                  <a:lnTo>
                    <a:pt x="13" y="81"/>
                  </a:lnTo>
                  <a:lnTo>
                    <a:pt x="29" y="54"/>
                  </a:lnTo>
                  <a:lnTo>
                    <a:pt x="51" y="32"/>
                  </a:lnTo>
                  <a:lnTo>
                    <a:pt x="75" y="14"/>
                  </a:lnTo>
                  <a:lnTo>
                    <a:pt x="103" y="3"/>
                  </a:lnTo>
                  <a:lnTo>
                    <a:pt x="133" y="0"/>
                  </a:lnTo>
                  <a:close/>
                </a:path>
              </a:pathLst>
            </a:custGeom>
            <a:solidFill>
              <a:srgbClr val="8ac8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1" name="Freeform 14"/>
            <p:cNvSpPr/>
            <p:nvPr/>
          </p:nvSpPr>
          <p:spPr>
            <a:xfrm>
              <a:off x="4876920" y="2655720"/>
              <a:ext cx="790560" cy="1530360"/>
            </a:xfrm>
            <a:custGeom>
              <a:avLst/>
              <a:gdLst>
                <a:gd name="textAreaLeft" fmla="*/ 0 w 790560"/>
                <a:gd name="textAreaRight" fmla="*/ 790920 w 790560"/>
                <a:gd name="textAreaTop" fmla="*/ 0 h 1530360"/>
                <a:gd name="textAreaBottom" fmla="*/ 1530720 h 1530360"/>
              </a:gdLst>
              <a:ahLst/>
              <a:rect l="textAreaLeft" t="textAreaTop" r="textAreaRight" b="textAreaBottom"/>
              <a:pathLst>
                <a:path w="573" h="1111">
                  <a:moveTo>
                    <a:pt x="94" y="0"/>
                  </a:moveTo>
                  <a:lnTo>
                    <a:pt x="72" y="5"/>
                  </a:lnTo>
                  <a:lnTo>
                    <a:pt x="50" y="16"/>
                  </a:lnTo>
                  <a:lnTo>
                    <a:pt x="30" y="32"/>
                  </a:lnTo>
                  <a:lnTo>
                    <a:pt x="15" y="53"/>
                  </a:lnTo>
                  <a:lnTo>
                    <a:pt x="4" y="75"/>
                  </a:lnTo>
                  <a:lnTo>
                    <a:pt x="0" y="99"/>
                  </a:lnTo>
                  <a:lnTo>
                    <a:pt x="0" y="509"/>
                  </a:lnTo>
                  <a:lnTo>
                    <a:pt x="0" y="511"/>
                  </a:lnTo>
                  <a:lnTo>
                    <a:pt x="1" y="516"/>
                  </a:lnTo>
                  <a:lnTo>
                    <a:pt x="4" y="525"/>
                  </a:lnTo>
                  <a:lnTo>
                    <a:pt x="9" y="533"/>
                  </a:lnTo>
                  <a:lnTo>
                    <a:pt x="16" y="543"/>
                  </a:lnTo>
                  <a:lnTo>
                    <a:pt x="26" y="550"/>
                  </a:lnTo>
                  <a:lnTo>
                    <a:pt x="39" y="556"/>
                  </a:lnTo>
                  <a:lnTo>
                    <a:pt x="56" y="557"/>
                  </a:lnTo>
                  <a:lnTo>
                    <a:pt x="72" y="556"/>
                  </a:lnTo>
                  <a:lnTo>
                    <a:pt x="84" y="551"/>
                  </a:lnTo>
                  <a:lnTo>
                    <a:pt x="92" y="543"/>
                  </a:lnTo>
                  <a:lnTo>
                    <a:pt x="100" y="534"/>
                  </a:lnTo>
                  <a:lnTo>
                    <a:pt x="103" y="525"/>
                  </a:lnTo>
                  <a:lnTo>
                    <a:pt x="106" y="516"/>
                  </a:lnTo>
                  <a:lnTo>
                    <a:pt x="107" y="508"/>
                  </a:lnTo>
                  <a:lnTo>
                    <a:pt x="108" y="503"/>
                  </a:lnTo>
                  <a:lnTo>
                    <a:pt x="108" y="500"/>
                  </a:lnTo>
                  <a:lnTo>
                    <a:pt x="108" y="166"/>
                  </a:lnTo>
                  <a:lnTo>
                    <a:pt x="134" y="167"/>
                  </a:lnTo>
                  <a:lnTo>
                    <a:pt x="135" y="1066"/>
                  </a:lnTo>
                  <a:lnTo>
                    <a:pt x="136" y="1068"/>
                  </a:lnTo>
                  <a:lnTo>
                    <a:pt x="138" y="1073"/>
                  </a:lnTo>
                  <a:lnTo>
                    <a:pt x="143" y="1080"/>
                  </a:lnTo>
                  <a:lnTo>
                    <a:pt x="151" y="1089"/>
                  </a:lnTo>
                  <a:lnTo>
                    <a:pt x="162" y="1097"/>
                  </a:lnTo>
                  <a:lnTo>
                    <a:pt x="174" y="1105"/>
                  </a:lnTo>
                  <a:lnTo>
                    <a:pt x="189" y="1110"/>
                  </a:lnTo>
                  <a:lnTo>
                    <a:pt x="199" y="1111"/>
                  </a:lnTo>
                  <a:lnTo>
                    <a:pt x="217" y="1111"/>
                  </a:lnTo>
                  <a:lnTo>
                    <a:pt x="227" y="1110"/>
                  </a:lnTo>
                  <a:lnTo>
                    <a:pt x="243" y="1105"/>
                  </a:lnTo>
                  <a:lnTo>
                    <a:pt x="255" y="1097"/>
                  </a:lnTo>
                  <a:lnTo>
                    <a:pt x="265" y="1089"/>
                  </a:lnTo>
                  <a:lnTo>
                    <a:pt x="272" y="1080"/>
                  </a:lnTo>
                  <a:lnTo>
                    <a:pt x="276" y="1073"/>
                  </a:lnTo>
                  <a:lnTo>
                    <a:pt x="278" y="1068"/>
                  </a:lnTo>
                  <a:lnTo>
                    <a:pt x="279" y="1066"/>
                  </a:lnTo>
                  <a:lnTo>
                    <a:pt x="279" y="499"/>
                  </a:lnTo>
                  <a:lnTo>
                    <a:pt x="302" y="499"/>
                  </a:lnTo>
                  <a:lnTo>
                    <a:pt x="302" y="503"/>
                  </a:lnTo>
                  <a:lnTo>
                    <a:pt x="302" y="515"/>
                  </a:lnTo>
                  <a:lnTo>
                    <a:pt x="302" y="534"/>
                  </a:lnTo>
                  <a:lnTo>
                    <a:pt x="302" y="560"/>
                  </a:lnTo>
                  <a:lnTo>
                    <a:pt x="304" y="590"/>
                  </a:lnTo>
                  <a:lnTo>
                    <a:pt x="304" y="626"/>
                  </a:lnTo>
                  <a:lnTo>
                    <a:pt x="304" y="664"/>
                  </a:lnTo>
                  <a:lnTo>
                    <a:pt x="304" y="706"/>
                  </a:lnTo>
                  <a:lnTo>
                    <a:pt x="304" y="750"/>
                  </a:lnTo>
                  <a:lnTo>
                    <a:pt x="304" y="793"/>
                  </a:lnTo>
                  <a:lnTo>
                    <a:pt x="304" y="838"/>
                  </a:lnTo>
                  <a:lnTo>
                    <a:pt x="305" y="882"/>
                  </a:lnTo>
                  <a:lnTo>
                    <a:pt x="305" y="926"/>
                  </a:lnTo>
                  <a:lnTo>
                    <a:pt x="305" y="966"/>
                  </a:lnTo>
                  <a:lnTo>
                    <a:pt x="305" y="1004"/>
                  </a:lnTo>
                  <a:lnTo>
                    <a:pt x="305" y="1037"/>
                  </a:lnTo>
                  <a:lnTo>
                    <a:pt x="305" y="1066"/>
                  </a:lnTo>
                  <a:lnTo>
                    <a:pt x="305" y="1067"/>
                  </a:lnTo>
                  <a:lnTo>
                    <a:pt x="306" y="1073"/>
                  </a:lnTo>
                  <a:lnTo>
                    <a:pt x="310" y="1079"/>
                  </a:lnTo>
                  <a:lnTo>
                    <a:pt x="315" y="1088"/>
                  </a:lnTo>
                  <a:lnTo>
                    <a:pt x="323" y="1096"/>
                  </a:lnTo>
                  <a:lnTo>
                    <a:pt x="335" y="1103"/>
                  </a:lnTo>
                  <a:lnTo>
                    <a:pt x="351" y="1108"/>
                  </a:lnTo>
                  <a:lnTo>
                    <a:pt x="372" y="1111"/>
                  </a:lnTo>
                  <a:lnTo>
                    <a:pt x="392" y="1108"/>
                  </a:lnTo>
                  <a:lnTo>
                    <a:pt x="408" y="1103"/>
                  </a:lnTo>
                  <a:lnTo>
                    <a:pt x="420" y="1096"/>
                  </a:lnTo>
                  <a:lnTo>
                    <a:pt x="429" y="1089"/>
                  </a:lnTo>
                  <a:lnTo>
                    <a:pt x="434" y="1080"/>
                  </a:lnTo>
                  <a:lnTo>
                    <a:pt x="437" y="1073"/>
                  </a:lnTo>
                  <a:lnTo>
                    <a:pt x="438" y="1068"/>
                  </a:lnTo>
                  <a:lnTo>
                    <a:pt x="438" y="1067"/>
                  </a:lnTo>
                  <a:lnTo>
                    <a:pt x="440" y="166"/>
                  </a:lnTo>
                  <a:lnTo>
                    <a:pt x="466" y="166"/>
                  </a:lnTo>
                  <a:lnTo>
                    <a:pt x="466" y="500"/>
                  </a:lnTo>
                  <a:lnTo>
                    <a:pt x="468" y="503"/>
                  </a:lnTo>
                  <a:lnTo>
                    <a:pt x="469" y="509"/>
                  </a:lnTo>
                  <a:lnTo>
                    <a:pt x="472" y="517"/>
                  </a:lnTo>
                  <a:lnTo>
                    <a:pt x="477" y="527"/>
                  </a:lnTo>
                  <a:lnTo>
                    <a:pt x="483" y="537"/>
                  </a:lnTo>
                  <a:lnTo>
                    <a:pt x="493" y="545"/>
                  </a:lnTo>
                  <a:lnTo>
                    <a:pt x="505" y="551"/>
                  </a:lnTo>
                  <a:lnTo>
                    <a:pt x="520" y="554"/>
                  </a:lnTo>
                  <a:lnTo>
                    <a:pt x="536" y="551"/>
                  </a:lnTo>
                  <a:lnTo>
                    <a:pt x="548" y="545"/>
                  </a:lnTo>
                  <a:lnTo>
                    <a:pt x="557" y="537"/>
                  </a:lnTo>
                  <a:lnTo>
                    <a:pt x="563" y="527"/>
                  </a:lnTo>
                  <a:lnTo>
                    <a:pt x="570" y="517"/>
                  </a:lnTo>
                  <a:lnTo>
                    <a:pt x="573" y="510"/>
                  </a:lnTo>
                  <a:lnTo>
                    <a:pt x="573" y="508"/>
                  </a:lnTo>
                  <a:lnTo>
                    <a:pt x="573" y="79"/>
                  </a:lnTo>
                  <a:lnTo>
                    <a:pt x="572" y="68"/>
                  </a:lnTo>
                  <a:lnTo>
                    <a:pt x="561" y="47"/>
                  </a:lnTo>
                  <a:lnTo>
                    <a:pt x="546" y="28"/>
                  </a:lnTo>
                  <a:lnTo>
                    <a:pt x="528" y="14"/>
                  </a:lnTo>
                  <a:lnTo>
                    <a:pt x="506" y="4"/>
                  </a:lnTo>
                  <a:lnTo>
                    <a:pt x="485" y="0"/>
                  </a:lnTo>
                  <a:lnTo>
                    <a:pt x="94" y="0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8ac8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62" name="Rectangle 15"/>
          <p:cNvSpPr/>
          <p:nvPr/>
        </p:nvSpPr>
        <p:spPr>
          <a:xfrm>
            <a:off x="4952880" y="2819520"/>
            <a:ext cx="4399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低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63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0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18" dur="2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7720" y="355680"/>
            <a:ext cx="7853400" cy="42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Verdana"/>
                <a:ea typeface="宋体"/>
              </a:rPr>
              <a:t>小剂量胰岛素静脉微量泵入疗法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65" name="Group 3"/>
          <p:cNvGrpSpPr/>
          <p:nvPr/>
        </p:nvGrpSpPr>
        <p:grpSpPr>
          <a:xfrm>
            <a:off x="228600" y="2133720"/>
            <a:ext cx="6324120" cy="3200040"/>
            <a:chOff x="228600" y="2133720"/>
            <a:chExt cx="6324120" cy="3200040"/>
          </a:xfrm>
        </p:grpSpPr>
        <p:grpSp>
          <p:nvGrpSpPr>
            <p:cNvPr id="266" name="Group 4"/>
            <p:cNvGrpSpPr/>
            <p:nvPr/>
          </p:nvGrpSpPr>
          <p:grpSpPr>
            <a:xfrm>
              <a:off x="228600" y="2133720"/>
              <a:ext cx="6324120" cy="3200040"/>
              <a:chOff x="228600" y="2133720"/>
              <a:chExt cx="6324120" cy="3200040"/>
            </a:xfrm>
          </p:grpSpPr>
          <p:sp>
            <p:nvSpPr>
              <p:cNvPr id="267" name="AutoShape 5"/>
              <p:cNvSpPr/>
              <p:nvPr/>
            </p:nvSpPr>
            <p:spPr>
              <a:xfrm>
                <a:off x="4189320" y="2851920"/>
                <a:ext cx="2363400" cy="2481840"/>
              </a:xfrm>
              <a:custGeom>
                <a:avLst/>
                <a:gdLst>
                  <a:gd name="textAreaLeft" fmla="*/ 0 w 2363400"/>
                  <a:gd name="textAreaRight" fmla="*/ 2363760 w 2363400"/>
                  <a:gd name="textAreaTop" fmla="*/ 0 h 2481840"/>
                  <a:gd name="textAreaBottom" fmla="*/ 2482200 h 2481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8043" y="0"/>
                    </a:lnTo>
                    <a:lnTo>
                      <a:pt x="21600" y="10800"/>
                    </a:lnTo>
                    <a:lnTo>
                      <a:pt x="18043" y="21600"/>
                    </a:lnTo>
                    <a:lnTo>
                      <a:pt x="0" y="21600"/>
                    </a:lnTo>
                    <a:lnTo>
                      <a:pt x="3557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ac8de"/>
                  </a:gs>
                  <a:gs pos="100000">
                    <a:srgbClr val="aad7e7"/>
                  </a:gs>
                </a:gsLst>
                <a:lin ang="0"/>
              </a:gradFill>
              <a:ln w="38160">
                <a:solidFill>
                  <a:srgbClr val="eaeaea"/>
                </a:solidFill>
                <a:miter/>
              </a:ln>
              <a:effectLst>
                <a:outerShdw dist="109184" dir="3271692" blurRad="0" rotWithShape="0">
                  <a:srgbClr val="33333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68" name="AutoShape 6"/>
              <p:cNvSpPr/>
              <p:nvPr/>
            </p:nvSpPr>
            <p:spPr>
              <a:xfrm>
                <a:off x="2208960" y="2851920"/>
                <a:ext cx="2491200" cy="2481840"/>
              </a:xfrm>
              <a:custGeom>
                <a:avLst/>
                <a:gdLst>
                  <a:gd name="textAreaLeft" fmla="*/ 0 w 2491200"/>
                  <a:gd name="textAreaRight" fmla="*/ 2491560 w 2491200"/>
                  <a:gd name="textAreaTop" fmla="*/ 0 h 2481840"/>
                  <a:gd name="textAreaBottom" fmla="*/ 2482200 h 2481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7845" y="0"/>
                    </a:lnTo>
                    <a:lnTo>
                      <a:pt x="21600" y="10800"/>
                    </a:lnTo>
                    <a:lnTo>
                      <a:pt x="17845" y="21600"/>
                    </a:lnTo>
                    <a:lnTo>
                      <a:pt x="0" y="21600"/>
                    </a:lnTo>
                    <a:lnTo>
                      <a:pt x="3755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f7f7f"/>
                  </a:gs>
                  <a:gs pos="100000">
                    <a:srgbClr val="969696"/>
                  </a:gs>
                </a:gsLst>
                <a:lin ang="0"/>
              </a:gradFill>
              <a:ln w="38160">
                <a:solidFill>
                  <a:srgbClr val="eaeaea"/>
                </a:solidFill>
                <a:miter/>
              </a:ln>
              <a:effectLst>
                <a:outerShdw dist="109184" dir="3271692" blurRad="0" rotWithShape="0">
                  <a:srgbClr val="33333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69" name="AutoShape 7"/>
              <p:cNvSpPr/>
              <p:nvPr/>
            </p:nvSpPr>
            <p:spPr>
              <a:xfrm>
                <a:off x="228600" y="2851920"/>
                <a:ext cx="2491200" cy="2481840"/>
              </a:xfrm>
              <a:custGeom>
                <a:avLst/>
                <a:gdLst>
                  <a:gd name="textAreaLeft" fmla="*/ 0 w 2491200"/>
                  <a:gd name="textAreaRight" fmla="*/ 2491560 w 2491200"/>
                  <a:gd name="textAreaTop" fmla="*/ 0 h 2481840"/>
                  <a:gd name="textAreaBottom" fmla="*/ 2482200 h 2481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7845" y="0"/>
                    </a:lnTo>
                    <a:lnTo>
                      <a:pt x="21600" y="10800"/>
                    </a:lnTo>
                    <a:lnTo>
                      <a:pt x="17845" y="21600"/>
                    </a:lnTo>
                    <a:lnTo>
                      <a:pt x="0" y="21600"/>
                    </a:lnTo>
                    <a:lnTo>
                      <a:pt x="3755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ac8de"/>
                  </a:gs>
                  <a:gs pos="100000">
                    <a:srgbClr val="add9e8"/>
                  </a:gs>
                </a:gsLst>
                <a:lin ang="0"/>
              </a:gradFill>
              <a:ln w="38160">
                <a:solidFill>
                  <a:srgbClr val="eaeaea"/>
                </a:solidFill>
                <a:miter/>
              </a:ln>
              <a:effectLst>
                <a:outerShdw dist="109184" dir="3271692" blurRad="0" rotWithShape="0">
                  <a:srgbClr val="33333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70" name="AutoShape 8"/>
              <p:cNvSpPr/>
              <p:nvPr/>
            </p:nvSpPr>
            <p:spPr>
              <a:xfrm>
                <a:off x="420120" y="2133720"/>
                <a:ext cx="1724760" cy="4924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8ac8de"/>
                  </a:gs>
                  <a:gs pos="100000">
                    <a:srgbClr val="add9e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001d3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用法用量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71" name="AutoShape 9"/>
              <p:cNvSpPr/>
              <p:nvPr/>
            </p:nvSpPr>
            <p:spPr>
              <a:xfrm>
                <a:off x="2364840" y="2133720"/>
                <a:ext cx="1724760" cy="4924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727272"/>
                  </a:gs>
                  <a:gs pos="100000">
                    <a:srgbClr val="969696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001d3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血糖下降幅度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72" name="AutoShape 10"/>
              <p:cNvSpPr/>
              <p:nvPr/>
            </p:nvSpPr>
            <p:spPr>
              <a:xfrm>
                <a:off x="4317120" y="2133720"/>
                <a:ext cx="1724760" cy="4924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8ac8de"/>
                  </a:gs>
                  <a:gs pos="100000">
                    <a:srgbClr val="add9e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001d3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动态调整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73" name="Text Box 11"/>
            <p:cNvSpPr/>
            <p:nvPr/>
          </p:nvSpPr>
          <p:spPr>
            <a:xfrm>
              <a:off x="762120" y="3471840"/>
              <a:ext cx="173016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20600" indent="-120600">
                <a:lnSpc>
                  <a:spcPct val="6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4" name="Text Box 12"/>
            <p:cNvSpPr/>
            <p:nvPr/>
          </p:nvSpPr>
          <p:spPr>
            <a:xfrm>
              <a:off x="2759040" y="3484440"/>
              <a:ext cx="1730520" cy="31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20600" indent="-120600"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5" name="Text Box 13"/>
            <p:cNvSpPr/>
            <p:nvPr/>
          </p:nvSpPr>
          <p:spPr>
            <a:xfrm>
              <a:off x="4746600" y="3484440"/>
              <a:ext cx="1730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20600" indent="-120600">
                <a:lnSpc>
                  <a:spcPct val="6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76" name="AutoShape 14"/>
          <p:cNvSpPr/>
          <p:nvPr/>
        </p:nvSpPr>
        <p:spPr>
          <a:xfrm>
            <a:off x="6934320" y="1828800"/>
            <a:ext cx="1828800" cy="4191120"/>
          </a:xfrm>
          <a:custGeom>
            <a:avLst/>
            <a:gdLst>
              <a:gd name="textAreaLeft" fmla="*/ 48600 w 1828800"/>
              <a:gd name="textAreaRight" fmla="*/ 1780200 w 1828800"/>
              <a:gd name="textAreaTop" fmla="*/ 48600 h 4191120"/>
              <a:gd name="textAreaBottom" fmla="*/ 4142520 h 4191120"/>
            </a:gdLst>
            <a:ahLst/>
            <a:rect l="textAreaLeft" t="textAreaTop" r="textAreaRight" b="textAreaBottom"/>
            <a:pathLst>
              <a:path w="21600" h="49496">
                <a:moveTo>
                  <a:pt x="1967" y="0"/>
                </a:moveTo>
                <a:arcTo wR="1967" hR="1967" stAng="16200000" swAng="-5400000"/>
                <a:lnTo>
                  <a:pt x="0" y="47529"/>
                </a:lnTo>
                <a:arcTo wR="1967" hR="1967" stAng="10800000" swAng="-5400000"/>
                <a:lnTo>
                  <a:pt x="19633" y="49496"/>
                </a:lnTo>
                <a:arcTo wR="1967" hR="1967" stAng="5400000" swAng="-5400000"/>
                <a:lnTo>
                  <a:pt x="21600" y="1967"/>
                </a:lnTo>
                <a:arcTo wR="1967" hR="1967" stAng="0" swAng="-5400000"/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50000">
                <a:srgbClr val="ffffff"/>
              </a:gs>
              <a:gs pos="100000">
                <a:srgbClr val="dddddd"/>
              </a:gs>
            </a:gsLst>
            <a:lin ang="0"/>
          </a:gradFill>
          <a:ln w="255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77" name="Picture 15" descr="QQ图片20141218203706"/>
          <p:cNvPicPr/>
          <p:nvPr/>
        </p:nvPicPr>
        <p:blipFill>
          <a:blip r:embed="rId1"/>
          <a:stretch/>
        </p:blipFill>
        <p:spPr>
          <a:xfrm>
            <a:off x="685800" y="2895480"/>
            <a:ext cx="5486400" cy="2468520"/>
          </a:xfrm>
          <a:prstGeom prst="rect">
            <a:avLst/>
          </a:prstGeom>
          <a:ln w="0">
            <a:noFill/>
          </a:ln>
        </p:spPr>
      </p:pic>
      <p:sp>
        <p:nvSpPr>
          <p:cNvPr id="278" name="Rectangle 16"/>
          <p:cNvSpPr/>
          <p:nvPr/>
        </p:nvSpPr>
        <p:spPr>
          <a:xfrm>
            <a:off x="5257800" y="373392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79" name="Picture 17" descr="7(HJ_G]HNNNZ2XIHVCH9{25"/>
          <p:cNvPicPr/>
          <p:nvPr/>
        </p:nvPicPr>
        <p:blipFill>
          <a:blip r:embed="rId2"/>
          <a:stretch/>
        </p:blipFill>
        <p:spPr>
          <a:xfrm>
            <a:off x="685800" y="2971800"/>
            <a:ext cx="5410080" cy="228600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18" descr=""/>
          <p:cNvPicPr/>
          <p:nvPr/>
        </p:nvPicPr>
        <p:blipFill>
          <a:blip r:embed="rId3"/>
          <a:stretch/>
        </p:blipFill>
        <p:spPr>
          <a:xfrm>
            <a:off x="685800" y="2895480"/>
            <a:ext cx="5410080" cy="228600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19" descr=""/>
          <p:cNvPicPr/>
          <p:nvPr/>
        </p:nvPicPr>
        <p:blipFill>
          <a:blip r:embed="rId4"/>
          <a:stretch/>
        </p:blipFill>
        <p:spPr>
          <a:xfrm>
            <a:off x="6858000" y="3276720"/>
            <a:ext cx="2000160" cy="100944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3" descr="C:\Users\Administrator\Desktop\最终2.jpg"/>
          <p:cNvPicPr/>
          <p:nvPr/>
        </p:nvPicPr>
        <p:blipFill>
          <a:blip r:embed="rId5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52" dur="2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1128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五 应激性高血糖患者的护理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942840" y="1700280"/>
            <a:ext cx="7893360" cy="434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密切观察病情变化，积极预防并发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密切监测血糖的变化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正确的营养支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低血糖的预防及处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加强心理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85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0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58" dur="2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361880" y="431280"/>
            <a:ext cx="6954840" cy="427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Verdana"/>
                <a:ea typeface="宋体"/>
              </a:rPr>
              <a:t>观察病情变化，预防并发症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703440" y="1372680"/>
            <a:ext cx="77342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46ca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严密观察患者生命体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46ca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加强呼吸道管理，根据情况实施胸部物理治疗，预防呼吸系统感染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46ca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准确记录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4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小时出入量和每小时尿量，合理补液，预防休克的出现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46ca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监测电解质和酸碱的变化  遵医嘱正确采集血标本送检，定时监测血酮、血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pH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及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Na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K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等，及时对症处理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46ca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加强基础护理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88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0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4" dur="2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195280" y="333000"/>
            <a:ext cx="4413240" cy="45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Verdana"/>
                <a:ea typeface="宋体"/>
              </a:rPr>
              <a:t>血糖监测频率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90" name="Group 3"/>
          <p:cNvGrpSpPr/>
          <p:nvPr/>
        </p:nvGrpSpPr>
        <p:grpSpPr>
          <a:xfrm>
            <a:off x="533520" y="1447920"/>
            <a:ext cx="8152920" cy="4800240"/>
            <a:chOff x="533520" y="1447920"/>
            <a:chExt cx="8152920" cy="4800240"/>
          </a:xfrm>
        </p:grpSpPr>
        <p:sp>
          <p:nvSpPr>
            <p:cNvPr id="291" name="AutoShape 4"/>
            <p:cNvSpPr/>
            <p:nvPr/>
          </p:nvSpPr>
          <p:spPr>
            <a:xfrm>
              <a:off x="533520" y="1447920"/>
              <a:ext cx="8152920" cy="148932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eeeeee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2" name="AutoShape 5"/>
            <p:cNvSpPr/>
            <p:nvPr/>
          </p:nvSpPr>
          <p:spPr>
            <a:xfrm>
              <a:off x="712080" y="1585440"/>
              <a:ext cx="1570680" cy="121752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8ac8de"/>
                </a:gs>
                <a:gs pos="100000">
                  <a:srgbClr val="608c9b"/>
                </a:gs>
              </a:gsLst>
              <a:lin ang="54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3" name="Freeform 6"/>
            <p:cNvSpPr/>
            <p:nvPr/>
          </p:nvSpPr>
          <p:spPr>
            <a:xfrm>
              <a:off x="808920" y="1663920"/>
              <a:ext cx="785160" cy="608400"/>
            </a:xfrm>
            <a:custGeom>
              <a:avLst/>
              <a:gdLst>
                <a:gd name="textAreaLeft" fmla="*/ 0 w 785160"/>
                <a:gd name="textAreaRight" fmla="*/ 785520 w 785160"/>
                <a:gd name="textAreaTop" fmla="*/ 0 h 608400"/>
                <a:gd name="textAreaBottom" fmla="*/ 608400 h 608400"/>
              </a:gdLst>
              <a:ahLst/>
              <a:rect l="textAreaLeft" t="textAreaTop" r="textAreaRight" b="textAreaBottom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bfe1ed"/>
                </a:gs>
                <a:gs pos="50000">
                  <a:srgbClr val="8ac8de">
                    <a:alpha val="0"/>
                  </a:srgbClr>
                </a:gs>
                <a:gs pos="100000">
                  <a:srgbClr val="bfe1e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4" name="Text Box 7"/>
            <p:cNvSpPr/>
            <p:nvPr/>
          </p:nvSpPr>
          <p:spPr>
            <a:xfrm>
              <a:off x="1291320" y="191916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5" name="Text Box 8"/>
            <p:cNvSpPr/>
            <p:nvPr/>
          </p:nvSpPr>
          <p:spPr>
            <a:xfrm>
              <a:off x="2498760" y="1678320"/>
              <a:ext cx="599148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治疗初期，应</a:t>
              </a:r>
              <a:r>
                <a:rPr b="1" lang="zh-CN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每</a:t>
              </a:r>
              <a:r>
                <a:rPr b="1" lang="en-US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1</a:t>
              </a:r>
              <a:r>
                <a:rPr b="1" lang="zh-CN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～</a:t>
              </a:r>
              <a:r>
                <a:rPr b="1" lang="en-US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2</a:t>
              </a:r>
              <a:r>
                <a:rPr b="1" lang="zh-CN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小</a:t>
              </a:r>
              <a:r>
                <a:rPr b="1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时监测一次血糖；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稳定后</a:t>
              </a:r>
              <a:r>
                <a:rPr b="1" lang="zh-CN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每</a:t>
              </a:r>
              <a:r>
                <a:rPr b="1" lang="en-US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4</a:t>
              </a:r>
              <a:r>
                <a:rPr b="1" lang="zh-CN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小时</a:t>
              </a:r>
              <a:r>
                <a:rPr b="1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监测一次血糖；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胰岛素输注速度改变，</a:t>
              </a:r>
              <a:r>
                <a:rPr b="1" lang="zh-CN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每</a:t>
              </a:r>
              <a:r>
                <a:rPr b="1" lang="en-US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1</a:t>
              </a:r>
              <a:r>
                <a:rPr b="1" lang="zh-CN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～</a:t>
              </a:r>
              <a:r>
                <a:rPr b="1" lang="en-US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2</a:t>
              </a:r>
              <a:r>
                <a:rPr b="1" lang="zh-CN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小时</a:t>
              </a:r>
              <a:r>
                <a:rPr b="1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测一次血糖。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6" name="AutoShape 9"/>
            <p:cNvSpPr/>
            <p:nvPr/>
          </p:nvSpPr>
          <p:spPr>
            <a:xfrm>
              <a:off x="533520" y="3094560"/>
              <a:ext cx="8152920" cy="148752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eeeeee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7" name="AutoShape 10"/>
            <p:cNvSpPr/>
            <p:nvPr/>
          </p:nvSpPr>
          <p:spPr>
            <a:xfrm>
              <a:off x="712080" y="3230280"/>
              <a:ext cx="1570680" cy="121752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969696"/>
                </a:gs>
                <a:gs pos="100000">
                  <a:srgbClr val="696969"/>
                </a:gs>
              </a:gsLst>
              <a:lin ang="54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8" name="Freeform 11"/>
            <p:cNvSpPr/>
            <p:nvPr/>
          </p:nvSpPr>
          <p:spPr>
            <a:xfrm>
              <a:off x="808920" y="3308760"/>
              <a:ext cx="785160" cy="609120"/>
            </a:xfrm>
            <a:custGeom>
              <a:avLst/>
              <a:gdLst>
                <a:gd name="textAreaLeft" fmla="*/ 0 w 785160"/>
                <a:gd name="textAreaRight" fmla="*/ 785520 w 785160"/>
                <a:gd name="textAreaTop" fmla="*/ 0 h 609120"/>
                <a:gd name="textAreaBottom" fmla="*/ 609480 h 609120"/>
              </a:gdLst>
              <a:ahLst/>
              <a:rect l="textAreaLeft" t="textAreaTop" r="textAreaRight" b="textAreaBottom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d3d3d3"/>
                </a:gs>
                <a:gs pos="100000">
                  <a:srgbClr val="969696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9" name="Text Box 12"/>
            <p:cNvSpPr/>
            <p:nvPr/>
          </p:nvSpPr>
          <p:spPr>
            <a:xfrm>
              <a:off x="1292400" y="356580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0" name="Text Box 13"/>
            <p:cNvSpPr/>
            <p:nvPr/>
          </p:nvSpPr>
          <p:spPr>
            <a:xfrm>
              <a:off x="2498760" y="3296160"/>
              <a:ext cx="59914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血糖变化迅速（即使在理想范围）或在严重范围，如＜</a:t>
              </a:r>
              <a:r>
                <a:rPr b="1" lang="en-US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3.5mmol/L</a:t>
              </a:r>
              <a:r>
                <a:rPr b="1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或＞</a:t>
              </a:r>
              <a:r>
                <a:rPr b="1" lang="en-US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20mmol/L</a:t>
              </a:r>
              <a:r>
                <a:rPr b="1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，</a:t>
              </a:r>
              <a:r>
                <a:rPr b="1" lang="zh-CN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则需要</a:t>
              </a:r>
              <a:r>
                <a:rPr b="1" lang="en-US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0.5</a:t>
              </a:r>
              <a:r>
                <a:rPr b="1" lang="zh-CN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～</a:t>
              </a:r>
              <a:r>
                <a:rPr b="1" lang="en-US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1</a:t>
              </a:r>
              <a:r>
                <a:rPr b="1" lang="zh-CN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小时测一次血糖</a:t>
              </a:r>
              <a:r>
                <a:rPr b="1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。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1" name="AutoShape 14"/>
            <p:cNvSpPr/>
            <p:nvPr/>
          </p:nvSpPr>
          <p:spPr>
            <a:xfrm>
              <a:off x="533520" y="4759200"/>
              <a:ext cx="8152920" cy="14889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eeeeee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2" name="AutoShape 15"/>
            <p:cNvSpPr/>
            <p:nvPr/>
          </p:nvSpPr>
          <p:spPr>
            <a:xfrm>
              <a:off x="712080" y="4896360"/>
              <a:ext cx="1570680" cy="121824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ddb523"/>
                </a:gs>
                <a:gs pos="100000">
                  <a:srgbClr val="9a7e18"/>
                </a:gs>
              </a:gsLst>
              <a:lin ang="54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3" name="Freeform 16"/>
            <p:cNvSpPr/>
            <p:nvPr/>
          </p:nvSpPr>
          <p:spPr>
            <a:xfrm>
              <a:off x="808920" y="4974840"/>
              <a:ext cx="785160" cy="609120"/>
            </a:xfrm>
            <a:custGeom>
              <a:avLst/>
              <a:gdLst>
                <a:gd name="textAreaLeft" fmla="*/ 0 w 785160"/>
                <a:gd name="textAreaRight" fmla="*/ 785520 w 785160"/>
                <a:gd name="textAreaTop" fmla="*/ 0 h 609120"/>
                <a:gd name="textAreaBottom" fmla="*/ 609480 h 609120"/>
              </a:gdLst>
              <a:ahLst/>
              <a:rect l="textAreaLeft" t="textAreaTop" r="textAreaRight" b="textAreaBottom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eedb94"/>
                </a:gs>
                <a:gs pos="100000">
                  <a:srgbClr val="ddb523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4" name="Text Box 17"/>
            <p:cNvSpPr/>
            <p:nvPr/>
          </p:nvSpPr>
          <p:spPr>
            <a:xfrm>
              <a:off x="1291320" y="522864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5" name="Text Box 18"/>
            <p:cNvSpPr/>
            <p:nvPr/>
          </p:nvSpPr>
          <p:spPr>
            <a:xfrm>
              <a:off x="2498760" y="4962240"/>
              <a:ext cx="5991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行肠内或肠外营养的危重患者，常规</a:t>
              </a:r>
              <a:r>
                <a:rPr b="1" lang="en-US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4</a:t>
              </a:r>
              <a:r>
                <a:rPr b="1" lang="zh-CN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～</a:t>
              </a:r>
              <a:r>
                <a:rPr b="1" lang="en-US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6</a:t>
              </a:r>
              <a:r>
                <a:rPr b="1" lang="zh-CN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小时</a:t>
              </a:r>
              <a:r>
                <a:rPr b="1" lang="en-US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1</a:t>
              </a:r>
              <a:r>
                <a:rPr b="1" lang="zh-CN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次</a:t>
              </a:r>
              <a:r>
                <a:rPr b="1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检测血糖，警惕进食后高血糖和进食中断后的低血。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306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0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70" dur="2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547640" y="0"/>
            <a:ext cx="518184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Verdana"/>
                <a:ea typeface="宋体"/>
              </a:rPr>
              <a:t>血糖监测的注意事项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09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5" descr="3"/>
          <p:cNvPicPr/>
          <p:nvPr/>
        </p:nvPicPr>
        <p:blipFill>
          <a:blip r:embed="rId2"/>
          <a:stretch/>
        </p:blipFill>
        <p:spPr>
          <a:xfrm>
            <a:off x="1066680" y="1600200"/>
            <a:ext cx="708660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76" dur="2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2034720" y="431640"/>
            <a:ext cx="5010120" cy="33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Verdana"/>
                <a:ea typeface="宋体"/>
              </a:rPr>
              <a:t>血糖监测的注意事项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13" name="Picture 4" descr="4"/>
          <p:cNvPicPr/>
          <p:nvPr/>
        </p:nvPicPr>
        <p:blipFill>
          <a:blip r:embed="rId1"/>
          <a:stretch/>
        </p:blipFill>
        <p:spPr>
          <a:xfrm>
            <a:off x="762120" y="1676520"/>
            <a:ext cx="7543800" cy="467028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3" descr="C:\Users\Administrator\Desktop\最终2.jpg"/>
          <p:cNvPicPr/>
          <p:nvPr/>
        </p:nvPicPr>
        <p:blipFill>
          <a:blip r:embed="rId2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0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2" dur="2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763280" y="0"/>
            <a:ext cx="52578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Verdana"/>
                <a:ea typeface="宋体"/>
              </a:rPr>
              <a:t>正确的营养支持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324000" y="1412640"/>
            <a:ext cx="85341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对应激性高血糖的危重患者，应尽早进行合理的肠内、肠外营养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避免高能量、高葡萄糖的饮食，建议选择低碳水化合物、高单不饱和脂肪酸（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MUFA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）的配方，其中膳食纤维和其他微量元素在控制血糖中也有着重要的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大量的研究和实验证明：糖尿病专用配方能很好的控制血糖的水平，减少胰岛素用量，而降低了低血糖的风险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无论鼻饲还是静脉滴注营养液，在使用过程中都应当持续、匀速输注，避免血糖波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17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0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8" dur="2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618920" y="0"/>
            <a:ext cx="579132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Verdana"/>
                <a:ea typeface="宋体"/>
              </a:rPr>
              <a:t>低血糖的预防及处理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68000" y="1915920"/>
            <a:ext cx="829476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在处理危重患者的应激性高血糖的过程中，应密切观察病情，定时监测血糖，及时调整胰岛素入量，防止因</a:t>
            </a: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胰岛素使用过量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而引起低血糖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20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0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94" dur="2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灯片编号占位符 3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73C11-821A-4825-A1A1-CB1CF9715C0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16000" y="333360"/>
            <a:ext cx="7772400" cy="45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内分泌与激素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2808000" cy="38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宋体"/>
              </a:rPr>
              <a:t>内分泌系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分泌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激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1" name="AutoShape 7"/>
          <p:cNvSpPr/>
          <p:nvPr/>
        </p:nvSpPr>
        <p:spPr>
          <a:xfrm>
            <a:off x="3924360" y="1628640"/>
            <a:ext cx="4968720" cy="2880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899" y="6120"/>
                </a:moveTo>
                <a:lnTo>
                  <a:pt x="-331" y="857"/>
                </a:lnTo>
              </a:path>
              <a:path w="21600" h="21600">
                <a:moveTo>
                  <a:pt x="-331" y="0"/>
                </a:moveTo>
                <a:lnTo>
                  <a:pt x="-331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内分泌系统由内分泌腺和内分泌细胞组成，是机体的重要调节系统，与神经系统、免疫系统相互配合，共同调节机体的生长、发育、代谢、运动、生殖等，维持内环境的相对稳定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Picture 2" descr="bki-20130822155932-628659008"/>
          <p:cNvPicPr/>
          <p:nvPr/>
        </p:nvPicPr>
        <p:blipFill>
          <a:blip r:embed="rId1"/>
          <a:stretch/>
        </p:blipFill>
        <p:spPr>
          <a:xfrm>
            <a:off x="611280" y="255600"/>
            <a:ext cx="8137440" cy="595944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3" descr="C:\Users\Administrator\Desktop\最终2.jpg"/>
          <p:cNvPicPr/>
          <p:nvPr/>
        </p:nvPicPr>
        <p:blipFill>
          <a:blip r:embed="rId2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0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00" dur="2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2700000" y="0"/>
            <a:ext cx="304812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低血糖处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8610480" cy="31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应立即暂停胰岛素的泵入；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予以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5%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10%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葡萄糖静脉滴注；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严重者静脉推注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50%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葡萄糖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40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60ml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25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0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06" dur="2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WordArt 2"/>
          <p:cNvSpPr txBox="1"/>
          <p:nvPr/>
        </p:nvSpPr>
        <p:spPr>
          <a:xfrm>
            <a:off x="1476360" y="2205000"/>
            <a:ext cx="6375240" cy="24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969696"/>
                    </a:gs>
                    <a:gs pos="100000">
                      <a:srgbClr val="ddb523"/>
                    </a:gs>
                  </a:gsLst>
                  <a:lin ang="0"/>
                </a:gradFill>
                <a:effectLst>
                  <a:outerShdw dist="53966" dir="2700000" blurRad="0" rotWithShape="0">
                    <a:srgbClr val="dddddd">
                      <a:alpha val="50000"/>
                    </a:srgbClr>
                  </a:outerShdw>
                </a:effectLst>
                <a:latin typeface="Arial"/>
              </a:rPr>
              <a:t>Thank You </a:t>
            </a:r>
            <a:endParaRPr b="1" i="1" lang="en-US" sz="24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969696"/>
                  </a:gs>
                  <a:gs pos="100000">
                    <a:srgbClr val="ddb523"/>
                  </a:gs>
                </a:gsLst>
                <a:lin ang="0"/>
              </a:gradFill>
              <a:effectLst>
                <a:outerShdw dist="53966" dir="2700000" blurRad="0" rotWithShape="0">
                  <a:srgbClr val="dddddd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327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48640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5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1000"/>
                            </p:stCondLst>
                            <p:childTnLst>
                              <p:par>
                                <p:cTn id="317" nodeType="after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8" dur="500" autoRev="1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42,64,89)"/>
                                      </p:to>
                                    </p:set>
                                    <p:set>
                                      <p:cBhvr>
                                        <p:cTn id="319" dur="500" autoRev="1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42,64,89)"/>
                                      </p:to>
                                    </p:set>
                                    <p:set>
                                      <p:cBhvr>
                                        <p:cTn id="320" dur="500" autoRev="1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22" dur="2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灯片编号占位符 6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A067B-96B1-46B4-A6A4-580571C5D14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611280" y="2133720"/>
            <a:ext cx="2641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内分泌系统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Verdana"/>
                <a:ea typeface="宋体"/>
              </a:rPr>
              <a:t>内分泌腺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激素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" name="矩形 8"/>
          <p:cNvSpPr/>
          <p:nvPr/>
        </p:nvSpPr>
        <p:spPr>
          <a:xfrm flipH="1">
            <a:off x="6012000" y="260280"/>
            <a:ext cx="299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内分泌与激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AutoShape 12"/>
          <p:cNvSpPr/>
          <p:nvPr/>
        </p:nvSpPr>
        <p:spPr>
          <a:xfrm>
            <a:off x="4716360" y="1844640"/>
            <a:ext cx="3888000" cy="2879640"/>
          </a:xfrm>
          <a:prstGeom prst="borderCallout1">
            <a:avLst>
              <a:gd name="adj1" fmla="val 18750"/>
              <a:gd name="adj2" fmla="val -8333"/>
              <a:gd name="adj3" fmla="val 57550"/>
              <a:gd name="adj4" fmla="val -5177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内分泌腺是指人体内一些无输出导管的腺体，主要包括垂体、甲状腺、甲状旁腺、胸腺、肾上腺、胰岛、性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等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灯片编号占位符 3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01223-0B82-4C46-8945-F74843D8E7E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796000" y="333360"/>
            <a:ext cx="314496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内分泌与激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55280" y="2708280"/>
            <a:ext cx="2089080" cy="27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内分泌系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内分泌腺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激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" name="AutoShape 4"/>
          <p:cNvSpPr/>
          <p:nvPr/>
        </p:nvSpPr>
        <p:spPr>
          <a:xfrm>
            <a:off x="4572000" y="1700280"/>
            <a:ext cx="4248000" cy="3816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3690" y="15176"/>
                </a:moveTo>
                <a:lnTo>
                  <a:pt x="-387" y="647"/>
                </a:lnTo>
              </a:path>
              <a:path w="21600" h="21600">
                <a:moveTo>
                  <a:pt x="-387" y="0"/>
                </a:moveTo>
                <a:lnTo>
                  <a:pt x="-387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激素是指内分泌腺或内分泌细胞分泌的高效生物活性物质，它是传递信息的化学信号物质，其作用有明显的特异性，只针对特定的受体发挥作用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激素的作用方式有四种形式：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内分泌、旁分泌、自分泌、胞内分泌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D39AB-1BB6-48EF-B931-614C56F0FE0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79616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血糖代谢的调节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42" name="Picture 6" descr="1COJDI9}L[2LEY[IZ_AE8[8"/>
          <p:cNvPicPr/>
          <p:nvPr/>
        </p:nvPicPr>
        <p:blipFill>
          <a:blip r:embed="rId1"/>
          <a:stretch/>
        </p:blipFill>
        <p:spPr>
          <a:xfrm>
            <a:off x="900000" y="1125360"/>
            <a:ext cx="7488360" cy="521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47280" y="260280"/>
            <a:ext cx="741708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血糖代谢的调节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—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激素对血糖的调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44" name="Picture 6" descr="图11-3"/>
          <p:cNvPicPr/>
          <p:nvPr/>
        </p:nvPicPr>
        <p:blipFill>
          <a:blip r:embed="rId1"/>
          <a:stretch/>
        </p:blipFill>
        <p:spPr>
          <a:xfrm>
            <a:off x="4343400" y="1143000"/>
            <a:ext cx="4800600" cy="4987800"/>
          </a:xfrm>
          <a:prstGeom prst="rect">
            <a:avLst/>
          </a:prstGeom>
          <a:ln w="0">
            <a:noFill/>
          </a:ln>
        </p:spPr>
      </p:pic>
      <p:sp>
        <p:nvSpPr>
          <p:cNvPr id="145" name="Rectangle 7"/>
          <p:cNvSpPr/>
          <p:nvPr/>
        </p:nvSpPr>
        <p:spPr>
          <a:xfrm>
            <a:off x="395280" y="1341360"/>
            <a:ext cx="367200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e230c"/>
                </a:solidFill>
                <a:latin typeface="Verdana"/>
                <a:ea typeface="宋体"/>
              </a:rPr>
              <a:t>胰岛素：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促进全身组织对糖的摄取、储存和利用，从而使血糖浓度降低。胰岛素是体内唯一降低血糖浓度的激素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e230c"/>
                </a:solidFill>
                <a:latin typeface="Verdana"/>
                <a:ea typeface="宋体"/>
              </a:rPr>
              <a:t>胰高血糖素：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与胰岛素的作用相反，促进肝糖原分解进入血液，促进脂肪酸和氨基酸等非糖物质转化成葡萄糖，最终使血糖含量升高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肾上腺素、肾上腺糖皮质激素、甲状腺激素、生长激素等均有升高血糖的功能。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微软用户</cp:lastModifiedBy>
  <cp:lastPrinted>1899-12-30T00:00:00Z</cp:lastPrinted>
  <dcterms:modified xsi:type="dcterms:W3CDTF">2015-09-02T00:16:59Z</dcterms:modified>
  <cp:revision>102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